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73152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94F-B0C8-48AA-990A-A66179B5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44564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D1B-2674-421B-9D15-4A992D7B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F98-97DE-43DA-8816-19FF2D3A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BF9-62C6-418E-97CE-9D14171F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FDDC-FDBA-4375-BE86-29BE1510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DA14-AA57-4C5D-B473-1561CE53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FB9D-E72D-4561-B9AF-E41F8081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135C-A03E-42F6-9094-E90DBB61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2CF2-87E7-4F8B-AEA2-00010724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792920" cy="72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3C69-F39C-4BD9-B4C3-ABC4F177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10EC-E7E2-4F64-A032-4C919DCF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32B-F3F0-4BE8-8036-E79C00D8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1B8C-C4A9-41DC-B847-D4C7B61F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A072-CD6F-4298-AFE6-98FDEECE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44564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CDCD-2B63-46A0-B649-9CCCA0D9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DC22-7BB4-4BB6-8872-B3257CE0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15280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445640"/>
            <a:ext cx="250236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A1BD-923D-43D4-A8D6-CF307946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827-6F8A-462E-B340-8B3B231F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0B2-0CF8-417F-AB16-F1DDF60B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9E4-2977-4F4E-98A4-38AA501F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28600"/>
            <a:ext cx="7792920" cy="72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2068-5299-4B67-8E5B-D39F4453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139-9E9F-4E9D-945D-F97842C9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44564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9C6-9E64-48CC-B279-1FB0D63B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152800"/>
            <a:ext cx="3792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445640"/>
            <a:ext cx="77724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F27-4EC3-415B-9CDE-54E79B9A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171440"/>
            <a:ext cx="438120" cy="5065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171440"/>
            <a:ext cx="32832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622520"/>
            <a:ext cx="422280" cy="506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622520"/>
            <a:ext cx="36828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544760"/>
            <a:ext cx="560160" cy="450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057320"/>
            <a:ext cx="31680" cy="11224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900080"/>
            <a:ext cx="8226360" cy="33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659640"/>
            <a:ext cx="1905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659640"/>
            <a:ext cx="2895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659640"/>
            <a:ext cx="19047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F808-B368-4269-A2C3-603F06CF63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600280"/>
            <a:ext cx="9009000" cy="1123560"/>
            <a:chOff x="0" y="2600280"/>
            <a:chExt cx="9009000" cy="112356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715480"/>
              <a:ext cx="711360" cy="506880"/>
              <a:chOff x="290520" y="2715480"/>
              <a:chExt cx="711360" cy="5068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715480"/>
                <a:ext cx="437400" cy="506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715480"/>
                <a:ext cx="328320" cy="506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3166200"/>
              <a:ext cx="737640" cy="506880"/>
              <a:chOff x="414360" y="3166200"/>
              <a:chExt cx="737640" cy="5068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3166200"/>
                <a:ext cx="421560" cy="506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3166200"/>
                <a:ext cx="369000" cy="506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3088080"/>
              <a:ext cx="560520" cy="450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600280"/>
              <a:ext cx="31680" cy="11235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477960"/>
              <a:ext cx="869292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787040"/>
            <a:ext cx="777240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664320"/>
            <a:ext cx="1904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664320"/>
            <a:ext cx="2895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54B3-90A4-48EF-A329-38444B417E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24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50880"/>
            <a:ext cx="861048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ROLES AND RESPONSIBILITIES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OF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IWDG, Nodal Officer, SAMETI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ATMA, FIAC, BTT,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ahoma"/>
              </a:rPr>
              <a:t>FAC, FIGs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998600" y="4419720"/>
            <a:ext cx="351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M.N. Red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0482-88A1-4FEE-94DA-45DE9B8B7003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ARM INFORMATION AND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DVISORY CENTER (FIAC)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lock Technology Team (BTT) - Constitu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950840"/>
            <a:ext cx="79246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 level officers of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icultu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l Husbandry &amp; Veterinary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 Prot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il Conserv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icul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nior most official irrespective of the participating departments heads the Block Technology Team as BTT Conven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BB5-B73D-40DE-8DE4-912F05E9A1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TT - Func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112480"/>
            <a:ext cx="7543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formation of FIG / F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rationalize SRE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pare Block Action Pla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ordinate implement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sist in updating Strategic Research and Extension Plan (SREP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TT Convenor receives funds at Block level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eld programmes are implemented by participating departments based on approved plans and funds allocated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95C-85E9-4584-9760-CCB0A206A6A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1760" y="1950840"/>
            <a:ext cx="80010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. No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mb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ccupatio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rm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gricul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rm Wom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griculture  (SC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rm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rm Wom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rm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ive Stock Produc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rm Wom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ive Stock Producer (SC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rm Wom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hila Mand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rm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Yuvak Mand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rme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put Deal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rm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rmer Grou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rm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DC Me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Block Development Counci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50560" y="731880"/>
            <a:ext cx="753588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armer Advisory Committee (FAC) – Constitution (ATMA Shimla Model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D60-BD77-43BB-B833-B555FAFFA4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AC - Func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2276640"/>
            <a:ext cx="739116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ote FIGs / F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block extension prior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 Block Work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rmer feedback mechan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22E-98A2-4F17-BEEE-14F84CA5797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armer Interest Groups (FIG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35192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llage level groups of farmers involved around an activity or a commod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vers both formal and informal grou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llage FIGs/SHGs will ultimately federate at block/ district level and be represented in Farmer Advisory Committee and ATMA Governing Bo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me provides for support to FIGs both in terms of Managerial Capacity Building and technical Backstopp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Gs are also linked to concerned institutions/programmes to avial needed support for sustain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0FC-E0BF-4920-91F9-6C9E3CB973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VITY PLAN – STATE GOV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90720" y="2133720"/>
          <a:ext cx="7543800" cy="4857480"/>
        </p:xfrm>
        <a:graphic>
          <a:graphicData uri="http://schemas.openxmlformats.org/drawingml/2006/table">
            <a:tbl>
              <a:tblPr/>
              <a:tblGrid>
                <a:gridCol w="5790960"/>
                <a:gridCol w="175284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ignate a Nodal Offi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07.05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itution of Inter-Departmental Working 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5.05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y a Nodal HRD Institution- SAM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5.05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ication of distri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1.05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itioning of  Director SAMETI, faculty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REP 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1.05.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ting of funds (Identification of State level autonomous bod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1.05.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pare ATMA–like–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1.05.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ablishment of ATMA/other bodies – issue of not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1.05.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581C-8A0C-4E67-86C6-EADC085E72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VITY PLAN – STATE GOVT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                                   Contd…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981080"/>
          <a:ext cx="7848360" cy="5456520"/>
        </p:xfrm>
        <a:graphic>
          <a:graphicData uri="http://schemas.openxmlformats.org/drawingml/2006/table">
            <a:tbl>
              <a:tblPr/>
              <a:tblGrid>
                <a:gridCol w="5559480"/>
                <a:gridCol w="2288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power deployment in ATMAs - PD and other Sta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1.05.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 level Orientation workshops for District Nodal Officers i.e. PD, ATMA, SAMETI Faculty/ SREP Coordinator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01.06.05 – 15.06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lection of SREP Core Team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0.06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entation of District Functionaries and Training of SREP Core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0.06.05 – 15.07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REP development exerc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5.07.05 – 15.09.05– 15.08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velopment of District  Agriculture Action 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0.09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velopment of State Extension Work  Plan and its submission to D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15.1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praisal and Funding of SEWP by D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31.1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cessary support would be provided by DAC/MANAG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438-65CD-41B6-81DA-4A6EF709FF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345600"/>
            <a:ext cx="655344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 for SAMETIs</a:t>
            </a:r>
            <a:br>
              <a:rPr sz="4400"/>
            </a:b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Per year ( Rs  in Lak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152800"/>
            <a:ext cx="7735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y and Allowances of Faculty/ support      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- born by the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al expenses and technical assistance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  <a:ea typeface="Times New Roman"/>
              </a:rPr>
              <a:t>9.00 lak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ii) Documentation of success stories etc. (preparation and dissemination).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3.00 lak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v) Vehicle hiring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- 3.00 lak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quipment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- 6.00 Lakh (Ist Ye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e time grant for building maintenance/ furnishing of training hal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- 5.00 Lakh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( Ist Ye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8BA-5F0D-41CB-BF34-1E8AB2D1AF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outing of funds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Identification of State level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utonomous bod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heme is proposed to be funded on 90:10 pattern between Government of India and State/UT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unds are proposed to be routed through an autonomous institute/SAMETI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h an institution may be identified and its name may be communicated to this Department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site action for meeting State’s share may also be initi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FE0-3402-4352-B65A-62D70719C8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25440"/>
            <a:ext cx="61722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IKELY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RELEASES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 In Rs Lakh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240" y="1463760"/>
            <a:ext cx="384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t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95280" y="2276640"/>
          <a:ext cx="7086600" cy="4154040"/>
        </p:xfrm>
        <a:graphic>
          <a:graphicData uri="http://schemas.openxmlformats.org/drawingml/2006/table">
            <a:tbl>
              <a:tblPr/>
              <a:tblGrid>
                <a:gridCol w="655920"/>
                <a:gridCol w="2544480"/>
                <a:gridCol w="2179800"/>
                <a:gridCol w="1706400"/>
              </a:tblGrid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 NATP St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TP St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iew Worksho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WG Expen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san M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E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DBE-92FC-4B51-B5CB-8E2BBDEA94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837720"/>
            <a:ext cx="779292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tate level Inter Departmental Working Group (IDWG) – Func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356920"/>
            <a:ext cx="77724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on with the DAC-GO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nitor implementation of the extension reforms within the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oting and supporting integrated extension delivery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 Departmental linkages - line departments, marketing input and credit institutions, NGOs, private/corporate sec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jor issues related to implementation of the sche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7759-CEE7-45EE-85DA-9738E922B1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161640"/>
            <a:ext cx="6172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LIKELY RELEASES </a:t>
            </a:r>
            <a:br>
              <a:rPr sz="3600"/>
            </a:b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( In Rs Lakh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8560" y="1463760"/>
            <a:ext cx="384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ct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43000" y="1971720"/>
          <a:ext cx="7467480" cy="4962240"/>
        </p:xfrm>
        <a:graphic>
          <a:graphicData uri="http://schemas.openxmlformats.org/drawingml/2006/table">
            <a:tbl>
              <a:tblPr/>
              <a:tblGrid>
                <a:gridCol w="615960"/>
                <a:gridCol w="2959200"/>
                <a:gridCol w="2203920"/>
                <a:gridCol w="1688400"/>
              </a:tblGrid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 NATP Distri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TP Distri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REP Prepa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ining of Farm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ing Demonstr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osure Visit of Farm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bilization of farmer gro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trict level Kisan Me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ation Dissemination through print m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chnology packages in electronic fo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MA Establish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eld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rmer Scientist Inte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BD7-94A6-43B3-8093-781D60338E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520" y="325440"/>
            <a:ext cx="61722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LIKELY RELEASES </a:t>
            </a:r>
            <a:br>
              <a:rPr sz="3600"/>
            </a:b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( In Rs Lakh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2930400"/>
          <a:ext cx="7467480" cy="3530880"/>
        </p:xfrm>
        <a:graphic>
          <a:graphicData uri="http://schemas.openxmlformats.org/drawingml/2006/table">
            <a:tbl>
              <a:tblPr/>
              <a:tblGrid>
                <a:gridCol w="2819160"/>
                <a:gridCol w="2266920"/>
                <a:gridCol w="2381400"/>
              </a:tblGrid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  NAT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trict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d on interim Work Plan covering eligible   items indicated in earlier 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mmary of Rel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672-D8FB-46E6-A655-28EEF226F6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Development of District  Agriculture Action Plan (DAAP)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ing of SREP at FIA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 of Block Action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val by the Farmers Advisory Committ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olidation at District level as DA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Blockwise-Activitywise details of activities proposed, unit, quantity, total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To be consolidated District w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534-D642-4A01-815B-75A9893EDF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6122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velopment of State Extension Work  Plan (SEWP) and its submission to DAC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– Areas to be address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240" y="1905120"/>
            <a:ext cx="7961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system prevailing in the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institutional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ategy towards Private Particip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ategy towards gender mainstre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ategy towards sustainability of Exten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Initi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rmer Centric Extension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ncial Requirem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level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ct level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novativ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75C-8A4B-40CC-BD9A-9AAB491DC8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74400" y="304920"/>
            <a:ext cx="779292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ppraisal and Funding of SEWP by DAC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7724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mission of SEWP to the D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tion of SEWP before core group in the Minis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rutiny of SEWP for compliance to reform parameters, cafeteria, policy initia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based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C2F-DA12-4A70-9F0A-E41FE0007F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62320" y="312408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6D1-2149-435E-BEDC-E0CBDD6C81D7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8744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tate level Inter Departmental Working Group (IDWG) – Constitution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2031480"/>
            <a:ext cx="807732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riculture Production Commissioner/Secretary (Agri.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irm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retary (Financ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retary (Fisherie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retary (Horticultur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retary (Rural Development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retary (Animal Husbandr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retary (Soil Conservation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retary (Women Development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ecretary (Panchayati Raj)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retaries of related departments (wherever necessar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ice Chancellor (s) of SAU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retary (Agri.)/ Deputy Secretary (Agri.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mb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departments where separate Secretaries do not exist, Director of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concerned department may act as Membe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4A2-C7C1-4D2E-8B64-DB0AA6D7D3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6880" y="533160"/>
            <a:ext cx="7459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Nodal Officer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-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oles &amp; Responsibilities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152800"/>
            <a:ext cx="7656480" cy="46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ve Officer of State level Project Implementation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tioning of Manpow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al for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f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and Orientation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ment of SEW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rdinates IDWG Meet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and Monitoring of th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icy Decisions on expansion of th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42E-1BEF-4568-B8FE-30AA12A24B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0"/>
            <a:ext cx="7688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ate Agriculture Management &amp; Extension Training Institute (SAME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82600" y="2152800"/>
            <a:ext cx="765648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or SAMETI – a key person for success of the In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vs Managemen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Key facult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train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tory method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cation an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81A-3CE3-4316-9450-AFE82D3866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844720"/>
            <a:ext cx="3962520" cy="422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FFIC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ct Magistrate/Coll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O of ZP/C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t. Director / Dy. Director (Agri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RS/KVK 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Bank Officer of the Dis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t. Industries Centre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. Marketing Board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Director ATMA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Member Secr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844720"/>
            <a:ext cx="4038840" cy="422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N OFFIC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 Crop Production Farm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Horticulture Far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Livestock Pro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isheries/Sericulture r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farmer interest group r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C/ST farmer r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ector Represent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GO / SHG represent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Supplying Assoc. rep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Optional, States will have flexibilit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other non-officials such as WU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s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114300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MA GOVERNING BOARD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1951200"/>
            <a:ext cx="1600200" cy="89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505320" y="1951200"/>
            <a:ext cx="1371600" cy="89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304920" y="0"/>
            <a:ext cx="992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ICULTURAL TECHNOLOG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MENT AGENCY (AT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A5A-0700-43E6-9706-75C9F070C25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TMA – GB - Func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2031840"/>
            <a:ext cx="75438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ve SR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ve Work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e f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e private sector 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revolving f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nge aud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ty to receive f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BB0-B7F4-4A68-9711-53FE7E977A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487440"/>
            <a:ext cx="779328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TMA – Management Committee - Constitu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43000" y="1951200"/>
          <a:ext cx="7696080" cy="4975200"/>
        </p:xfrm>
        <a:graphic>
          <a:graphicData uri="http://schemas.openxmlformats.org/drawingml/2006/table">
            <a:tbl>
              <a:tblPr/>
              <a:tblGrid>
                <a:gridCol w="615960"/>
                <a:gridCol w="5835600"/>
                <a:gridCol w="124452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Director of Agriculture Technology Management Ag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 Head of Dept., Agr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 Head of Dept., Horti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 Head of Dept., Animal Husband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 Head of dept. Fishe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rict Head of Dept. Seri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 Head of other appropriate line Departm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d, Krishi Vigyan Kend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d, Zonal Research S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e representative of NGO, in-charge of Farmers’ Organ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wo representatives of Farmer’s Organizations (one year rotation bas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A31-3D5E-4DF4-9A3B-B9DBB6C2C3D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28600"/>
            <a:ext cx="7792920" cy="15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TMA – Management Committee - Func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2276640"/>
            <a:ext cx="7238880" cy="42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SRE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Work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rdinate implementation of Work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report to G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tain accou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ariat to GB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717-5689-4C96-9D30-11921A1DCF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6:21:49Z</dcterms:created>
  <dc:creator>NATP</dc:creator>
  <dc:description/>
  <dc:language>en-US</dc:language>
  <cp:lastModifiedBy>cyber01</cp:lastModifiedBy>
  <cp:lastPrinted>2004-03-04T05:24:09Z</cp:lastPrinted>
  <dcterms:modified xsi:type="dcterms:W3CDTF">2005-05-31T16:03:42Z</dcterms:modified>
  <cp:revision>473</cp:revision>
  <dc:subject/>
  <dc:title>IMPLEMENTING REFORMS IN AGRIUCLTURE EXTENSION IN INDIA</dc:title>
</cp:coreProperties>
</file>