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3722-8431-4E28-A1D1-C91EC097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9CDC-1554-4392-85C1-32233F67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C229-3FEA-4CD8-9976-60B8323F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4594-A8DB-439A-ABA8-D9CAB8BA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9F4-E3A3-48E1-9E84-0150292F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533F-72CC-4A9C-8CEE-2148B55B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9DC-0D5F-4D32-8E1D-A3CBE33E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639-D077-4611-B6A7-844F3466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C2D7-DC28-4F01-AEF5-40218421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707-121D-4EE0-B56B-23F704AF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1BB9-B273-4D1A-A3E7-9ACD7840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D4B-3974-4600-B07C-473EEFC4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493F-0529-4C92-BD93-DC97F7D02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3BD4-AC29-4981-9ED8-C8DC26A0D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115416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7809-1F9A-49C2-BAEE-7DF579540B2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7" descr="yelbkga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" name="Rectangle 18"/>
          <p:cNvSpPr/>
          <p:nvPr/>
        </p:nvSpPr>
        <p:spPr>
          <a:xfrm>
            <a:off x="115416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CAEA-BE44-4DEF-87D9-5E57672AE46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23" descr="yelbkga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533520" y="106668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DIFIED SUPPORT TO STATE EXTENSION PROGRAMME FOR EXTENSION RE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FETERIA OF ACTIVITI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762120" y="6094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B.7. FARMER AWARDS – BEST FARMERS REPRESENTING DIFFERENT ENTERPRISES (BLOCK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295280" y="205740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 Year per Farmers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.10 Lak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 Block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.50 Lak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 of Farmers per Block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5  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143000" y="2666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FARM INFORMATION DISSEM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33520" y="533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B.8. DISTRICT LEVEL EXHIBITIONS, KISAN MELAS, FRUITS / VEGETABLE SHOWS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066680" y="2057400"/>
            <a:ext cx="7315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Narrow"/>
              </a:rPr>
              <a:t>Per District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</a:rPr>
              <a:t>4.00 lakh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Narrow"/>
              </a:rPr>
              <a:t>Includes Kisan M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Narrow"/>
              </a:rPr>
              <a:t>Fruits / Vegetable Sh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Narrow"/>
              </a:rPr>
              <a:t>Pasu Mela e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3520" y="533520"/>
            <a:ext cx="8381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B.9. INFORMATION DISSEMINATION THROUGH PRINTED LEAFLETS ETC AND LOCAL ADVERTIS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838080" y="213372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 Distric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4.00 lakh per di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nimum 25% allocations is to be used for publicity of KCC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ther Govt. of Sc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33520" y="304920"/>
            <a:ext cx="8381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B.10. DEVELOPMENT OF TECHNOLOGY PACKAGES ON ELECTRONIC FORM TO BE SHARED THROUGH I.T. NETWOR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2590920"/>
            <a:ext cx="8610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er Distri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2.00 lakh per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st of Production Per CD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0.20 lakhs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 For Production of Max. 10 C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143000" y="2666880"/>
            <a:ext cx="7391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AGRICULTURAL TECHNOLOGY REFINEMENT, VALIDATION AND ADOP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(RESEARCH-EXTENSION-FARMER LINK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33520" y="304920"/>
            <a:ext cx="8381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B.11.  (i)FARMER-SCIENTIST INTERACTION AT DISTRICT LEVE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371600" y="762120"/>
            <a:ext cx="6477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. of F-S Interact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2 Nos.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t cost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.20 lak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tal cost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.40 Lak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. farmer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5 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 of Day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457200" y="3505320"/>
            <a:ext cx="8381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B.11. (ii)Designate expert support from KVK/SAU at distric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28600" y="4114800"/>
            <a:ext cx="8610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 Month Per District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.02 lak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 District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.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 KVKs/ SAUs have to designate expert in-charge of one district. He would provide instant guidance to District Functionaries /BTM/SMS within his respective district. The Support includes that of mobile Phon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33520" y="304920"/>
            <a:ext cx="8381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B.12.  ORGANIZATION OF FIELD DAYS AND KISAN GOSTHIS TO STRENGTHEN RESEARCH-EXTENSION-FARMER LINKAG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914400" y="1828800"/>
            <a:ext cx="7924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per Block in each s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  Block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.30 Lak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 Programme per Block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.15 Lak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For two Seasons in a year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533520" y="304920"/>
            <a:ext cx="83818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B.13. ASSESSMENT, REFINEMENT, VALIDATION AND ADOPTION OF FRONTLINE TECHNOLOGIES AND OTHER SHORT TERM RESEARCHABLE ISSUES THROUGH KVKS AND OTHER LOCAL RESEARCH CENTRES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33520" y="266688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 per the assessment of KVK/ Local Research Center / &amp; or issues emanating from SRE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 districts -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5.00 lakhs (As per allocation of G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33520" y="304920"/>
            <a:ext cx="8381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B.14. ESTABLISHMENT OF ATMA LIKE INSTITUTIONS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304920" y="990720"/>
            <a:ext cx="861048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expenses including TA/DA for distric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District per Ye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6.50 lakhs (includes operational expenses for DF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ring of Vehicle  and P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District Per Ye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1.50 lak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Expenses exclusively for Block level (Including hiring of vehicles and P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Block – 0.30 lakhs (includes TA/DA and other expense of BF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expenses for B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Block per month – 0.05 lak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Expenses for SMS at Block level (Including mobility in the field, mobile connectivity and other expen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block per person per month – 0.035 lak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1430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DISTRICT LEVEL ACTIVITIES FOR EACH ATMA DI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90720" y="1676520"/>
            <a:ext cx="8153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Farmer oriented activities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Farm Information Dissemination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R-E-F Linkages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Administrative Expenses (Recurring)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2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Total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533520" y="304920"/>
            <a:ext cx="83818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15. ESTABLISHMENT OF BLOCK LEVEL FARM INFORAMTION AND ADVISORY CENTRES (FIACS)- PROVIDING IT APPLICATIONS FOR EFFECTIVE CONNECTIVITY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2120" y="2133720"/>
            <a:ext cx="8153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 Block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.30 lak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Maximum 10% of Blocks or 2 whichever is l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For new ATMA Distri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533520" y="304920"/>
            <a:ext cx="8381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B.16. FARM SCHOOL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762120" y="1219320"/>
            <a:ext cx="815328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llocation per Farm School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s. 29,41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inimum 3 Farm School per Bl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533520" y="304920"/>
            <a:ext cx="8381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C.2. PG DIPLOMA IN AGRICULTURAL EXTENSION MANAGEMENT THROUGH MANAGE (PGDA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62120" y="2057400"/>
            <a:ext cx="784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Narrow"/>
              </a:rPr>
              <a:t>0.15 Per Beneficiary ( 3.75 Per District for 25 Beneficiaries per distric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533520" y="304920"/>
            <a:ext cx="8381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D.1. SUPPORT FOR DISTRICT LEVEL TRAINING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09480" y="1219320"/>
            <a:ext cx="8382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Includes Both Operational Expenses and Non-Recurring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Per District -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5.00 lak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One Institution per ATMA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228600"/>
            <a:ext cx="8381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D.2. SETTING OF COMMUNITY RADIO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762120" y="1905120"/>
            <a:ext cx="8153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ne CRS Per District ( As per GOI Polic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er State Max -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54.00 Lak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533520" y="228600"/>
            <a:ext cx="83818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D.3. Farmers Fri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09480" y="1676520"/>
            <a:ext cx="81536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ne FF/ 2 Vill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s. 0.04 /Farmer Friend/ Y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 be shared between centre and State in the ratio 50: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533520" y="1371600"/>
            <a:ext cx="8610480" cy="40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imum 30% of resources meant for programmes and activities are allocated for women farmers and extension functiona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imum 10% of the allocation on recurring activities at district level is used through NGO, FO, Cooperatives , Para-Extension Workers, Input Suppliers, Corporate Sect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n expenditure shall be incurred from extension work plan allocation on in-eligible i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590920" y="457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IMPORTANT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Specialist &amp; Functionary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04920" y="1143000"/>
            <a:ext cx="861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. Director / Faculty Member – 8 Nos. at SAME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c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. Project Director – 2 per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Technology Manager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per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Matter Specialist – 2 per 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llage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mers Fri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Duties &amp; Responsib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228600" y="762120"/>
            <a:ext cx="861048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y. Project Director -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 responsible for research related issues and activi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&amp; prioritization of local research need based on SR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ion and follow-up with KVK and other R &amp; D institution for assessment, refinement, validation and adoption of new technolog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ing district level R-E-F Interface, Krishi Melas/ Exhibition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building of extension functionaries of all line departments in collaboration with KVKs and other institu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y. Project Director –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 as Member Secretary of ATMA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ion with Line Departments including Pvt.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ation of BAP into DA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, Monitoring of DAAP, RKVY &amp; NFSM and Feedback to PD, AT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building of farmers and FIGs in collaboration with KVKs and other Institu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Duties &amp; Responsibi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28600" y="762120"/>
            <a:ext cx="8610480" cy="65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lock Technology Manager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ion with line depar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ing Meeting of BTTs &amp; F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BTT in preparation of B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ation of Progress of Implem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to BTT &amp; AT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ise to the farmers/ FIGs in consultation with line departments and F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Farmers Fri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zation of farmers/ Constitution of Farmer Interest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 in conducting field demonstration, Kisan Goshties and Preparation of village Research Extension Action P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with SMS at Block level for exchange of information related to agri. and allied activities at field le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nding meetings of Gram Sabha, Maintaining a daily diary of activi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ing dissemination of information through multi-me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other work assigned by BTT/FAC/BTM/S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143000" y="2666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FARMER ORIENTED ACTIV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3024360" y="3108240"/>
            <a:ext cx="309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NK 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762120" y="914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B.1. DEVELOPING STRATEGIC RESEARCH &amp; EXTENSION PLA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066680" y="1905120"/>
            <a:ext cx="72392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 District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(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t Cos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.50 lak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tivities Include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ES Core Tea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rvey Work at AES Vil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alysis of Primary data and Secondar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ublication after fin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762120" y="3049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B.2. TRAINING OF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685800"/>
            <a:ext cx="8458200" cy="63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ter State Tr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District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s per the Allocation of GO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it Cost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Farmer per day 0.01 lak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g. 0.50 per 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. of Farmers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g. 50 farmer days per 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. of Days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ximum of 7 days  (inclusive Travel C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I.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ithin Stat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District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s per the Allocation of GO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it Cost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Per Farmer per day 0.0075 lak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g. 0.75 per 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. of Farmers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g. 100 farmers days per 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. of Days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ximum of 5 d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ithin District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District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s per the Allocation of GO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it Cost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Per Farmer per day 0.004 lak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g. 4.00 lakh per 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. of Farmers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g. 1000 farmers days per blo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. of Days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ximum of 2 d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685800" y="15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B.3. ORGANIZING DEMONSTRATION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09480" y="838080"/>
            <a:ext cx="822960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monstration (Agriculture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District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As per allocation of G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it Cost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0.04 lakhs Avg. 5.00 per 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Avg. 125 demon per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a in ha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0. 4 ha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I.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monstration (Allied Se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District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s per allocation of G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it Cost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0.4 lakhs Per demon (2.00 lakh per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Avg. 50 demonstration per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a in ha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0.04 ha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II.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armer to Farmer Technology Dissemination at Demonstration 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District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s per allocation of G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it Cost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0.015 lakhs ( 1.875 lakh  per bloc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. of Farmers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g. 6 visit of 50 farmers at demonstration Plo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09480" y="1522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B.4. EXPOSURE VISIT OF FARMERS – MAXIMUM DURATION OF 10 DAYS EXCLUDING TRAVEL TIM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990720"/>
            <a:ext cx="8458200" cy="55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er State Exposur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District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s per Allocation of G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it cost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participants per days 0.006 lak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g. 0.30 per blo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. of Farmers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g. 5 farmer per block for 10 d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I.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ithin State Exposure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District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s per Allocation of G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it cost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participants per day 0.003 lak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g. 0.75 lakhs per 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. of Farmers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g. 25 farmers per block for 10 d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ithin District Exposur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District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s per Allocation of G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it cost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participants per day 0.0025 lak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g. 0.25 lakh per blo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. of Farmers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g. 100 farmers per block for one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685800" y="2286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B.5. MOBILIZATION OF FARMER GROUPS OF DIFFERENT TYPES INCLUDING FIGS, WOMEN GROUPS, FO, COMMODITY ORGANIZATION AND FARMER COOPERATIVES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609480" y="1905120"/>
            <a:ext cx="83059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apacity Building, Skill Development and Support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district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As per allocation of G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group/ per year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0.05 lak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g. groups per block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 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. of farmers in a group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0-20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ed Money / Revolving f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district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s per allocation of G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group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0.10 lak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Narrow"/>
              </a:rPr>
              <a:t>only on emerging / high value/ high yield </a:t>
            </a:r>
            <a:r>
              <a:rPr b="0" lang="en-US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Narrow"/>
              </a:rPr>
              <a:t>gap/ problematic crops/ areas preferably </a:t>
            </a:r>
            <a:r>
              <a:rPr b="0" lang="en-US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 Narrow"/>
              </a:rPr>
              <a:t>on cluster b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Narrow"/>
              </a:rPr>
              <a:t>Note</a:t>
            </a:r>
            <a:r>
              <a:rPr b="0" lang="en-US" sz="1800" spc="-1" strike="noStrike">
                <a:solidFill>
                  <a:srgbClr val="0000ff"/>
                </a:solidFill>
                <a:latin typeface="Arial Narrow"/>
              </a:rPr>
              <a:t> : 5 lakh per district including 2.50 lakh for seed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62120" y="914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B.6. REWARDS AND INCENTIVES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85800" y="1828800"/>
            <a:ext cx="845820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est organized group representing different enterprises (Max 5 groups in a district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 distric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00 lak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 Year Per Group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.20 lak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NOJ</cp:lastModifiedBy>
  <dcterms:modified xsi:type="dcterms:W3CDTF">2010-08-17T09:43:11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