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0360" y="5877000"/>
            <a:ext cx="761760" cy="838080"/>
            <a:chOff x="90360" y="5877000"/>
            <a:chExt cx="761760" cy="838080"/>
          </a:xfrm>
        </p:grpSpPr>
        <p:sp>
          <p:nvSpPr>
            <p:cNvPr id="1" name="plant"/>
            <p:cNvSpPr/>
            <p:nvPr/>
          </p:nvSpPr>
          <p:spPr>
            <a:xfrm>
              <a:off x="166320" y="5877000"/>
              <a:ext cx="533520" cy="4572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plant"/>
            <p:cNvSpPr/>
            <p:nvPr/>
          </p:nvSpPr>
          <p:spPr>
            <a:xfrm>
              <a:off x="394920" y="6105600"/>
              <a:ext cx="457200" cy="533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plant"/>
            <p:cNvSpPr/>
            <p:nvPr/>
          </p:nvSpPr>
          <p:spPr>
            <a:xfrm>
              <a:off x="90360" y="6181560"/>
              <a:ext cx="457200" cy="5335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8310600" y="28440"/>
            <a:ext cx="761760" cy="838080"/>
            <a:chOff x="8310600" y="28440"/>
            <a:chExt cx="761760" cy="838080"/>
          </a:xfrm>
        </p:grpSpPr>
        <p:sp>
          <p:nvSpPr>
            <p:cNvPr id="5" name="plant"/>
            <p:cNvSpPr/>
            <p:nvPr/>
          </p:nvSpPr>
          <p:spPr>
            <a:xfrm>
              <a:off x="8386560" y="28440"/>
              <a:ext cx="533520" cy="45720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plant"/>
            <p:cNvSpPr/>
            <p:nvPr/>
          </p:nvSpPr>
          <p:spPr>
            <a:xfrm>
              <a:off x="8615160" y="257040"/>
              <a:ext cx="457200" cy="533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plant"/>
            <p:cNvSpPr/>
            <p:nvPr/>
          </p:nvSpPr>
          <p:spPr>
            <a:xfrm>
              <a:off x="8310600" y="333000"/>
              <a:ext cx="457200" cy="5335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295280"/>
            <a:ext cx="83055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Times New Roman"/>
              </a:rPr>
              <a:t>National Institute of Agricultural Exten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(An organization of Ministry of Agriculture, Govt. of Indi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ajendranagar, Hyderabad – 500 030, A.P., Ind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MNGLOGO" descr=""/>
          <p:cNvPicPr/>
          <p:nvPr/>
        </p:nvPicPr>
        <p:blipFill>
          <a:blip r:embed="rId1"/>
          <a:stretch/>
        </p:blipFill>
        <p:spPr>
          <a:xfrm>
            <a:off x="3733920" y="4768920"/>
            <a:ext cx="1218960" cy="94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0" y="0"/>
          <a:ext cx="91440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 txBox="1"/>
          <p:nvPr/>
        </p:nvSpPr>
        <p:spPr>
          <a:xfrm>
            <a:off x="1828800" y="388620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ELCO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99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Project Implement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133720"/>
            <a:ext cx="693432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on Work Plans to be prepared within the Frame Work of PF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feteria of reform oriented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s shall propose new institutional arrangements similar to AT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838080"/>
            <a:ext cx="69343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State Agricultural Management and Extension Training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(SAME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 Agricultural Management &amp; Extension Training Institute (SAMETI) - Will provide HRD support in innovative areas of extension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838080"/>
            <a:ext cx="693432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Selection of  ‘SAMETI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 level training institute either in the Department of Agriculture / line depart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 Agriculture Universities (SA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New institutional arrangement – </a:t>
            </a:r>
            <a:br>
              <a:rPr sz="2200"/>
            </a:b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Agricultural Technology Management Agency (ATMA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523880"/>
            <a:ext cx="815328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MA has the main responsibility of all the technology dissemination activities at the district leve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ing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ck Technology Team (BT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rmer Advisory 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odity oriented Farmer Interes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To make technology generation / dissemination farmer-driven and farmer-accou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d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228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Organizational Structure of Agricultural Technology Management Agency (AT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90720"/>
            <a:ext cx="3429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gricultural Technology Management Agency (AT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057400"/>
            <a:ext cx="2362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Governing Board (G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2743200"/>
            <a:ext cx="2362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TMA Management Committee (AM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962520"/>
            <a:ext cx="5867280" cy="98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Farm Information &amp; Advisory Centres (FIA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ock Technology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rmers’ Advis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am (BTT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ittee (FA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539100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539100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539100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539100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6248520"/>
            <a:ext cx="5943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Farmer Interest Groups (FI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752480"/>
            <a:ext cx="457200" cy="37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1880" y="1676520"/>
            <a:ext cx="457200" cy="37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0" y="1752480"/>
            <a:ext cx="100944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Distri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0" y="3276720"/>
            <a:ext cx="914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40" y="5105520"/>
            <a:ext cx="988920" cy="3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Vill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6765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53280" y="16765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666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391000"/>
            <a:ext cx="1143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7294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5748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748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73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938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4938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938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4929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1600200"/>
            <a:ext cx="80010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Agricultural Technology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Management Agency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(AT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MA is a decentralized and demand driven extension mechanism operating on the comparative strength of different stakehol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162000"/>
            <a:ext cx="754380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6332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Criteria in Selection of a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tricts covered under ITD-NATP and DASP-I will be includ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vering different agro-climatic zones in the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tricts having significant economic activity in sectors allied to agri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ource poor areas such as dry land districts identified for coverage under the NREG 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ence of  research institutions / SAU / KV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ing and agro-processing potential and availability of dedicated staff at the district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295280"/>
            <a:ext cx="7848360" cy="50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MA to facilitate the preparation of Strategic Research &amp; Extension Plan (SR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ory Methodologi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ing all the stakeholders &amp;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nalysis o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sting farming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– extension g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itizes the research – extens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s for development of work plans at block / district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57200"/>
            <a:ext cx="8001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trategic Research &amp; Extension Plan (SR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295280"/>
            <a:ext cx="78483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agency extension strategi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ing Systems Approa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 centric extension servic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g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instreaming gender conc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tainability of extensio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an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57200"/>
            <a:ext cx="8001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Policy Parameters Governing the Cafe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295280"/>
            <a:ext cx="762012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o ID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o State Level Training Institute (SAME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to extension functiona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visits of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level Exhibitio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Monitoring &amp;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Workshops (six month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ards and Incentives to best ATMA di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5720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CAFETERIA-STATE LEVEL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2209680"/>
            <a:ext cx="73915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Microsoft Sans Serif"/>
              </a:rPr>
              <a:t>X Plan Sche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Microsoft Sans Serif"/>
              </a:rPr>
              <a:t>“</a:t>
            </a:r>
            <a:r>
              <a:rPr b="1" lang="en-US" sz="3500" spc="-1" strike="noStrike">
                <a:solidFill>
                  <a:srgbClr val="990000"/>
                </a:solidFill>
                <a:latin typeface="Microsoft Sans Serif"/>
              </a:rPr>
              <a:t>Support to State Extension Programmes for Extension Reforms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295280"/>
            <a:ext cx="83055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lnSpc>
                <a:spcPct val="11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egories and cost ceiling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rmer oriented activit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4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rm Information dissemin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20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-E-F Linka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1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tive expenses/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20 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s from other three categories could be diverted to ‘Farmer Oriented Activities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572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CAFETERIA-DISTRICT LEVEL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60020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lnSpc>
                <a:spcPct val="13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REP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3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ing farmer groups (including revolving   f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3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ing of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3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3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sure visits of far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30000"/>
              </a:lnSpc>
              <a:spcBef>
                <a:spcPts val="550"/>
              </a:spcBef>
              <a:buClr>
                <a:srgbClr val="0099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ards and Incen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572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CAFETERIA-DISTRICT LEVEL ACTIVITIES – FARMER ORIENTE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00200"/>
            <a:ext cx="830556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lnSpc>
                <a:spcPct val="14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ct level exhibition, Kisan Melas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4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local print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4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CAFETERIA – DISTRICT LEVEL ACTIVITIES – FARM INFORMATION DISSE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600200"/>
            <a:ext cx="830556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lnSpc>
                <a:spcPct val="14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 Scientist Interaction – District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4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days and Kisan Goshties – Block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40000"/>
              </a:lnSpc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inement etc. of frontline technologies –     KVKs / ZR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CAFETERIA – DISTRICT LEVEL ACTIVITIES – R-E-F LINK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600200"/>
            <a:ext cx="830556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spcBef>
                <a:spcPts val="55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ment of ATMA like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48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/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al expenses/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ing of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support for equipment and civi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ment of FIACs on pilot ba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572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CAFETERIA – DISTRICT LEVEL ACTIVITIES – ADMINISTRATIVE SUPPORT/CAPITAL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905120"/>
            <a:ext cx="8305560" cy="34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2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 proposal of extension, activities and investments as per Scheme n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2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s other extension activities of the Centre /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2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p filling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2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tes District Plans etc. ( consistent with Article 243Z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2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courages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57200"/>
            <a:ext cx="7848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STATE EXTENSION WORK PLAN (SEW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00200"/>
            <a:ext cx="830556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and State – 90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includes beneficiary / private sector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s 226.07 cr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.53% for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5% fo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22% for innovativ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is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>
              <a:lnSpc>
                <a:spcPct val="11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State Level autonomous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572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Tahoma"/>
              </a:rPr>
              <a:t>FUND FLOW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990720"/>
            <a:ext cx="73152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etween Centre &amp; State in the ratio of 90: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% State’s share shall consist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h contribution, beneficiary contribution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ibution of other non-governmental 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ctual contribution made by other than the State Government may be counted for the next years State’s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286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ource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295280"/>
            <a:ext cx="800100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ntire X plan outlay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Rs.226.0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the scheme shall be utilized for activities to be implemented by States / Distri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Rs. 167.5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cro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mounting to 77.53% has been allocated for district level program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Rs. 22.1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cro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mounting to 10.25% has been allocated for State level program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Rs. 26.4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Arial"/>
              </a:rPr>
              <a:t>cro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amounting to 12.22% shall be available under the control of the Government of India.   This amount shall be utilized for innovative activities to be approved by GOI  and implemented through States / Distri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880"/>
            <a:ext cx="62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Allocation of fun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295280"/>
            <a:ext cx="80010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52 districts will be covered during the plan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f the districts from all the States, 50% of North-Eastern States and Jammu &amp; Kashmir shall be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uplication of funding for the same activities to be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unds will be allocated to the states in proportion to the number of blocks being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bout Rs. 3.3 lakhs (90% central share plus 10% state share) would be available per b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Work Plan provides enough flexibility to the States to propose need-based allocations for different districts within the 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457200"/>
            <a:ext cx="62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Coverage of Distri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447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The need for reforms in Agricultural Extension has been explicitly raised in the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819520"/>
            <a:ext cx="65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Agricultur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port of Expenditure Reforms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Tenth Plan Approach Pap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00200"/>
            <a:ext cx="80010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he resources for preparation of SREP and SEWP documents shall be released in the first yea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long with resources needed for capacity building and infrastructure support at district and State leve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sources meant for infrastructure support shall be released keeping in mind the infrastructure available with the concerned instit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Necessary flexibility will be observed in release of funds with a view to promote speedy implementation of the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533520"/>
            <a:ext cx="62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Phasing of Activ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828800"/>
            <a:ext cx="693432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920" algn="just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s for support from Central Compon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submitted by the States along with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submission of the Work Plan.  These proposals will be examined in the context of the objectiv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Policy Framework for Agricultural Extension (PFA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7621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upport from Central Component</a:t>
            </a: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447920"/>
            <a:ext cx="792504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wo installments in a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lease of second installment would depend upon furnishing of UCs,  release of corresponding State’s share against funds released earlier by the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ermissible carry over of unspent bala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ould be 25% of the annual allocatio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unds will be released to States preferably through an autonomous Institution identified by the States concerned,  e.g., SAME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838080"/>
            <a:ext cx="624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Schedule of Release of Fun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143000"/>
            <a:ext cx="8001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At District level 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TMA Governing Board,  at periodic interv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At State level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 Departmental Working Group (IDWG) functioning under Chairmanship of APC or Secretary (Agriculture) of the stat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monitoring mechanisms shall include quarterly reports, field inspections, workshops, etc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t Central level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AC will organize concurrent Monitoring and Evaluation, including impact evaluation, as needed as part of its scheme “Extension Support to Central Institu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380880"/>
            <a:ext cx="624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Monitoring &amp; Evaluation of SEW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600200"/>
            <a:ext cx="7925040" cy="33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KVK should be an active partner to operationalize the ATMA mod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sure that research priorities of KVK are fully aligned with and sensitive to SREPs at the District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Macro Management programmes and Centre/State sponsored schemes for agriculture and allied sectors should be integrated with the activities of AT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049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Important additional guidelines for implementation of the Sche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143000"/>
            <a:ext cx="7772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 line surveys should be undertaken in each ATMA District against which the scheme impact should be evaluated at the end of X Plan.  Baseline survey should be made an integral part of SREP proces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s may consider associating Panchayat Raj Institutions at all levels of institutional framework under the Sche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cretary of Department of Panchayat Raj of the State Government should be included as a  member of ID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1219320"/>
            <a:ext cx="761976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MA should propagate only economically viable and proven technologies since it aims to help resource poor famil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MA should be part of an integrated extension system consisting of farm schools in the field of farmers, KVKs, agri-clinics and agri-business cent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 algn="just"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ultimate aim of ATMA should be to make small farmers credit worthy (without collateral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 algn="just">
              <a:lnSpc>
                <a:spcPct val="13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62320" y="2743200"/>
            <a:ext cx="42670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10666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The five major guiding elements </a:t>
            </a:r>
            <a:br>
              <a:rPr sz="2200"/>
            </a:b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of the Policy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438280"/>
            <a:ext cx="7315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forming public sector exte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moting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gmenting media &amp; information technolo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instreaming g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acity build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30492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Verdana"/>
              </a:rPr>
              <a:t>World Bank funded National Agriculture Technology Project (NATP) - Pilot testing of the Refor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582560"/>
            <a:ext cx="769608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ed by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P has been pilot tested under innovations in Technology Dissemination (ITD) in seven states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4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Andhra Prades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0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Bi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0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Himachal Pr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0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Jhark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0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Maharash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0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Oris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2320" indent="-450720" algn="just">
              <a:lnSpc>
                <a:spcPct val="100000"/>
              </a:lnSpc>
              <a:spcBef>
                <a:spcPts val="1250"/>
              </a:spcBef>
              <a:buClr>
                <a:srgbClr val="297b29"/>
              </a:buClr>
              <a:buFont typeface="Wingdings" charset="2"/>
              <a:buChar char=""/>
              <a:tabLst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1" lang="en-US" sz="2000" spc="-1" strike="noStrike">
                <a:solidFill>
                  <a:srgbClr val="297b29"/>
                </a:solidFill>
                <a:latin typeface="Verdana"/>
              </a:rPr>
              <a:t>Punj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95280" y="2057400"/>
            <a:ext cx="6858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dian Institute of Management (IIM)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ucknow reveal that the ATMA’s extension approaches have been proving to be very promising in execution of the re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2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New Schemes of Extension Division of the 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Verdana"/>
              </a:rPr>
              <a:t>Dept. of  Agriculture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914400"/>
            <a:ext cx="777240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Felt the need for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dical overhaul of extens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rovements in sophistication of technology disseminatio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on services to meet the special needs of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New Schem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 to state extension programs for extension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ss Media Support to Agricultural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gri-clinics / Agri-business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ment of kisan call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057400"/>
            <a:ext cx="723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he States will be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on work plans will be prepared b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s will be provided to States / UTs for undertaking r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335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ch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Support to State Extension Programs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for Extension R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727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4572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Key reforms being promoted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under this Sch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4290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600200"/>
            <a:ext cx="7391520" cy="53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institutional arrangements – Decentralized decision m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nce of line departments – gap filling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 agency extension strategies – encourage private sector (minimum 10% allo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ad-based extension delivery (F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approach to extension – FOs &amp; FI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der concerns-Minimum 30%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stainability of extension services – Minimum 10% beneficiary con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tom of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6280" indent="-74628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9:11:20Z</dcterms:created>
  <dc:creator>bharathi</dc:creator>
  <dc:description/>
  <dc:language>en-US</dc:language>
  <cp:lastModifiedBy>P.M. CHARYULU</cp:lastModifiedBy>
  <dcterms:modified xsi:type="dcterms:W3CDTF">2005-05-31T16:48:29Z</dcterms:modified>
  <cp:revision>128</cp:revision>
  <dc:subject/>
  <dc:title>Slide 1</dc:title>
</cp:coreProperties>
</file>