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F992B-C39A-4EA8-B591-5841614D4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4D8CE-7190-4E60-A670-619265EB2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80C2D-5EF6-4183-BEB7-CC22A4589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24FCF-4353-4B5C-85F5-FF875A025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E0F3C-96AD-4E47-9462-071CD3E7F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A094B-1A26-4222-93B7-B32B7CD7A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BA6E8-2D0E-4D30-B14B-F20035188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0EE1C-85E1-4AC4-8137-E217D5590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409A6-FABD-4769-B892-4D6633070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14297-EE17-4779-9F46-863A9C33C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96E06-AB08-4615-A513-C9BA85DDF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BA959-42EC-42DB-8126-4FCF42EC3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4E440-2320-4BA4-9E4E-AEF14FC57B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14400" y="2590920"/>
            <a:ext cx="716292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Arial"/>
              </a:rPr>
              <a:t>Convergence between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Arial"/>
              </a:rPr>
              <a:t>ATMA &amp; KVK at District level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 name=""/>
          <p:cNvGraphicFramePr/>
          <p:nvPr/>
        </p:nvGraphicFramePr>
        <p:xfrm>
          <a:off x="0" y="152280"/>
          <a:ext cx="9144000" cy="6986520"/>
        </p:xfrm>
        <a:graphic>
          <a:graphicData uri="http://schemas.openxmlformats.org/drawingml/2006/table">
            <a:tbl>
              <a:tblPr/>
              <a:tblGrid>
                <a:gridCol w="723960"/>
                <a:gridCol w="2933640"/>
                <a:gridCol w="1506600"/>
                <a:gridCol w="2151000"/>
                <a:gridCol w="1828800"/>
              </a:tblGrid>
              <a:tr h="4287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S No.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Name Project Implementing Agency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No. of Bloc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Approved District </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Extension Work Plan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Amount Released in Lakhs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MA, Dumka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55.6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0.9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MA, Jamtar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9.1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5.1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MA, West Singhbhum</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61.7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7.0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MA, Palamau</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52.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2.3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MA, Chatr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50.3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9.5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MA, Garhw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63.4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5.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MA, Hazariba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67.2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1.0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MA, Seraikell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57.5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9.5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MA, Ranch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73.9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5.3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MA, Simdeg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38.8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5.8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MA, Lohardag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30.9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3.8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MA, Lateha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38.8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0.6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MA, Paku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39.8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4.5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MA, Dhanb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5.8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7.2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MA, Giridi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52.6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1.7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MA, Koderm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30.96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3.5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MA, Godd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7.49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7.7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MA, Bokar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5.3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7.4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MA, East Singhbhum</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6.2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9.0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MA, Khunti </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REP Developmen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5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5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MA, Ramgarh </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REP Developmen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5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5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Tota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18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1030.5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367.8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tivities under RKVY (2008-09)</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rig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il Tes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micomp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m Mechan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acity Buil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pical Poly Hou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457200" y="0"/>
          <a:ext cx="8381880" cy="7243920"/>
        </p:xfrm>
        <a:graphic>
          <a:graphicData uri="http://schemas.openxmlformats.org/drawingml/2006/table">
            <a:tbl>
              <a:tblPr/>
              <a:tblGrid>
                <a:gridCol w="773280"/>
                <a:gridCol w="1633320"/>
                <a:gridCol w="1397160"/>
                <a:gridCol w="1241280"/>
                <a:gridCol w="1241640"/>
                <a:gridCol w="2095200"/>
              </a:tblGrid>
              <a:tr h="291960">
                <a:tc gridSpan="6">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3300"/>
                          </a:solidFill>
                          <a:latin typeface="Arial"/>
                          <a:ea typeface="Arial"/>
                        </a:rPr>
                        <a:t>Fund Released under RKVY (District wise ) of 2008-09 </a:t>
                      </a:r>
                      <a:endParaRPr b="0" lang="en-US" sz="13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row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l. N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me of Distric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otal Fund Allocated Rs. In lakh (ST, SC and Oth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Total Expenditure Under RKV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KV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ota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te and Cent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mdeg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9.6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9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9.6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st Singhbh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8.8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3.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2.5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3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ohardag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4.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8.5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2.7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1.7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ateh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8.3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3.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2.1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hebgaj</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0.4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8.0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8.49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4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ku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0.6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6.2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6.9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3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oderm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3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okar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2.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8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8.8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4.1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uml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7.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1.5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0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6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anch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9.66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6.9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6.66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4.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odd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4.4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7.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1.5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ogh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9.2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5.3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4.6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hanba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5.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7.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3.08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4.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iridi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4.2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9.2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3.5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umk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2.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7.4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Jamtar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2.6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7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4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st Singhbh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9.3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5.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4.9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4.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lama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6.2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9.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5.5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hatr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7.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0.2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37.3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1.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arhw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7.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7.06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azaribag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2.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5.5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1.6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7.9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aikel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2.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6.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9.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amgar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7.69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9.0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6.7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2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hunt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4.52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3.6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9.99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earch, Seed Village &amp; Develop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98.4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5.6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94.06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Grand Tot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811.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602.8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414.06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1308.5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Release of fund Under NFSM to Districts </a:t>
            </a:r>
            <a:endParaRPr b="0" lang="en-US" sz="2000" spc="-1" strike="noStrike">
              <a:solidFill>
                <a:srgbClr val="000000"/>
              </a:solidFill>
              <a:latin typeface="Arial"/>
            </a:endParaRPr>
          </a:p>
        </p:txBody>
      </p:sp>
      <p:graphicFrame>
        <p:nvGraphicFramePr>
          <p:cNvPr id="62" name=""/>
          <p:cNvGraphicFramePr/>
          <p:nvPr/>
        </p:nvGraphicFramePr>
        <p:xfrm>
          <a:off x="304920" y="990720"/>
          <a:ext cx="8457840" cy="4570200"/>
        </p:xfrm>
        <a:graphic>
          <a:graphicData uri="http://schemas.openxmlformats.org/drawingml/2006/table">
            <a:tbl>
              <a:tblPr/>
              <a:tblGrid>
                <a:gridCol w="1409760"/>
                <a:gridCol w="1130040"/>
                <a:gridCol w="1252440"/>
                <a:gridCol w="1242360"/>
                <a:gridCol w="1162800"/>
                <a:gridCol w="1198080"/>
                <a:gridCol w="1062360"/>
              </a:tblGrid>
              <a:tr h="10159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Name of NFSM </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Distric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Amount of </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Work Plan </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Sanctioned </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by GO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Amount of </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Fund </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available to </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the districts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Expd. up to </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Previous month</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Aug, 200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Expd. </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During </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month</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Sept, 2009)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Expenditure </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During the </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Month</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Oct, </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200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Total </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Expd.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2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anch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60.8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37.5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47.1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5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96.3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99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Guml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07.4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57.4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7.1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2.5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49.6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95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imdeg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36.6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58.1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65.3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9.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85.1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Hazariba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65.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91.12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62.314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4.9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77.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22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st </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inghbhum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05.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99.14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38.0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39.5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77.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22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dministrative </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xpd.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8.8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7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7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95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Tota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1695.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843.35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522.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2.5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163.3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688.6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 name=""/>
          <p:cNvGraphicFramePr/>
          <p:nvPr/>
        </p:nvGraphicFramePr>
        <p:xfrm>
          <a:off x="457200" y="274680"/>
          <a:ext cx="8457840" cy="6605640"/>
        </p:xfrm>
        <a:graphic>
          <a:graphicData uri="http://schemas.openxmlformats.org/drawingml/2006/table">
            <a:tbl>
              <a:tblPr/>
              <a:tblGrid>
                <a:gridCol w="942840"/>
                <a:gridCol w="3576600"/>
                <a:gridCol w="2385360"/>
                <a:gridCol w="1553040"/>
              </a:tblGrid>
              <a:tr h="3985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 No.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pproved Interventions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pproved rate of assistance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it as per GOI Approval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0c0c0"/>
                    </a:solid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emonstration of Improved Package of Practice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s. 2500 per Dem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emonstration on System of Rice Intensification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s. 3000 per Dem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emonstration on Hybrid Rice Technology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s. 3000 per Dem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upport for Promotion of Hybrid Rice Seed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ssistance for Production of Hybrid Rice Seed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s. 1000 per qt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Qt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B.</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ssistance for Distribution of Hybrid Rice Seed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s. 2000 per qt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Qt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ssistance for Distribution of HYV Seed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s. 500 per qt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Qt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 Seed Minikits of High Yielding Varietie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Full Cos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B. Seed Minikts of Hybrid Varitie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Full Cos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ncentive for Micro Nutrients ( In Deficient Soil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s. 500 per h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ncentive for liming in Acid Soil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s. 500 per ha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ncentive for Cono weeder and other implement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s. 3000 per implement per farmer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ncentive for Zero Till Seed Drills (Tractors/Bullock Draw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s. 15000 per farmer per Machin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ncentive for Multicrop planter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s. 15000 per farmer per Machin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ncentive on Seed Drill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s. 15000 per farmer per Machin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ncentive on Rotavator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s. 30000 per farmer per Machin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ncentive for Pump Set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s. 10000 per farmer per Machin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ncentive on Power Weeder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s. 15000 per farmer per Machin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ncentive on Knap Sack Sprayer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s. 3000 per farmer per Machin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ssistance for Plant Protection Chemicals and bio-agent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s. 500 per h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Farmers Trainin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s.17000 per Trainin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ward for Best Performing Distric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s. 5.00 lakh per ye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isc Expenditur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ject Management Team and Other Misc Expenses at District Level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s. 6.36 lakhs per district per ye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b)</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ject Management Team and other  Misc. Expenses at State Level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s. 13.87 lakhs per St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Local Initiative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B.</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motion of Organic Compost through Vermi Compost in SH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s. 0.25 Lakh per Group</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s.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3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Fund Released to Different Agencies under NPMSHF</a:t>
            </a:r>
            <a:endParaRPr b="0" lang="en-US" sz="2000" spc="-1" strike="noStrike">
              <a:solidFill>
                <a:srgbClr val="000000"/>
              </a:solidFill>
              <a:latin typeface="Arial"/>
            </a:endParaRPr>
          </a:p>
        </p:txBody>
      </p:sp>
      <p:graphicFrame>
        <p:nvGraphicFramePr>
          <p:cNvPr id="65" name=""/>
          <p:cNvGraphicFramePr/>
          <p:nvPr/>
        </p:nvGraphicFramePr>
        <p:xfrm>
          <a:off x="228600" y="609480"/>
          <a:ext cx="8534160" cy="5486040"/>
        </p:xfrm>
        <a:graphic>
          <a:graphicData uri="http://schemas.openxmlformats.org/drawingml/2006/table">
            <a:tbl>
              <a:tblPr/>
              <a:tblGrid>
                <a:gridCol w="718920"/>
                <a:gridCol w="3692520"/>
                <a:gridCol w="1874880"/>
                <a:gridCol w="2247840"/>
              </a:tblGrid>
              <a:tr h="4957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S No.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Item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Amount Released by GOI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Amount Released to Different Agencies.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06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8 Numbers of New Static @ Rs. 30 lakh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20.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20.00 (BAU)</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09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3 New Mobile STLs @ Rs. 30 lakh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5.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 Proce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06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8 Strengthening of existing STLs @Rs. 10 lakh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0.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0.00 (Director Agri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0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 new FQCLs @ Rs. 50 lakh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5.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5.00 (Director Agri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06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 Strengthening of FQCLs @ Rs. 25 lakh</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2.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2.50 (Director Agri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60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8 Training of STLs staff/ extension officers @ Rs. </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5,000/-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0 (BAU)</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06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8 Training of farmers @ Rs. 10,0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4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40 (KVK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06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8 Field Demonstration @ Rs. 10,0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4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40 (KVK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09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80 Front Line Demonstration by STLs @ Rs. 20,0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00 (Old ST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57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Promotion of Organic Manures for 2000 ha @ Rs. 500/- </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per ha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50 (Old ST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60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Promotion of Soil amendments for 2000 ha @ Rs. 500/- </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per ha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50 (Old ST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60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Distribution of Micro Nutrients for 200 ha @ Rs. 500/- </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per ha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50 (Old ST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1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Tota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255.8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210.8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TL, MSTL &amp; FQCL TO BE ESTABLISHED </a:t>
            </a:r>
            <a:endParaRPr b="0" lang="en-US" sz="3200" spc="-1" strike="noStrike">
              <a:solidFill>
                <a:srgbClr val="000000"/>
              </a:solidFill>
              <a:latin typeface="Arial"/>
            </a:endParaRPr>
          </a:p>
        </p:txBody>
      </p:sp>
      <p:graphicFrame>
        <p:nvGraphicFramePr>
          <p:cNvPr id="67" name=""/>
          <p:cNvGraphicFramePr/>
          <p:nvPr/>
        </p:nvGraphicFramePr>
        <p:xfrm>
          <a:off x="457200" y="1600200"/>
          <a:ext cx="8229600" cy="4525920"/>
        </p:xfrm>
        <a:graphic>
          <a:graphicData uri="http://schemas.openxmlformats.org/drawingml/2006/table">
            <a:tbl>
              <a:tblPr/>
              <a:tblGrid>
                <a:gridCol w="3200400"/>
                <a:gridCol w="457200"/>
                <a:gridCol w="4572000"/>
              </a:tblGrid>
              <a:tr h="9050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Old STL to be strengthen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Ranchi, Chakradharpur, Gumla, Latehar, Dumka, </a:t>
                      </a: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Sahebganj, Giridih, Hazaribagh</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New STL to be Setup</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Godda, Bokaro, Lohardaga, Saraikella, Pakur, </a:t>
                      </a: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Garhwa, Chatra, Palam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3 MSTL to be set up</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Dumka, Hazaribagh, Ranchi (Expression of Interest </a:t>
                      </a: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is advertised vide PR No. 30751 (Agriculture) 09-10</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Old FQCL to be Strengthen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Ranchi</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New FQCL to be Setup</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Dumk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lgn="just">
              <a:lnSpc>
                <a:spcPct val="13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TMA is a decentralized and demand driven extension mechanism operating on the comparative strength of different stakeholders</a:t>
            </a:r>
            <a:endParaRPr b="0" lang="en-US" sz="2400" spc="-1" strike="noStrike">
              <a:solidFill>
                <a:srgbClr val="000000"/>
              </a:solidFill>
              <a:latin typeface="Arial"/>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Vs</a:t>
            </a:r>
            <a:endParaRPr b="0" lang="en-US" sz="2400" spc="-1" strike="noStrike">
              <a:solidFill>
                <a:srgbClr val="000000"/>
              </a:solidFill>
              <a:latin typeface="Arial"/>
            </a:endParaRPr>
          </a:p>
          <a:p>
            <a:pPr marL="343080" indent="-343080" algn="just">
              <a:lnSpc>
                <a:spcPct val="13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KVK is the nodal center of Farmers Training &amp; technology transfer in Agriculture &amp; Allied Discipline at the District level.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9" name="" descr=""/>
          <p:cNvPicPr/>
          <p:nvPr/>
        </p:nvPicPr>
        <p:blipFill>
          <a:blip r:embed="rId1"/>
          <a:stretch/>
        </p:blipFill>
        <p:spPr>
          <a:xfrm>
            <a:off x="2895480" y="2286000"/>
            <a:ext cx="3276720" cy="190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Mandate of ATMA/ KVK</a:t>
            </a:r>
            <a:endParaRPr b="0" lang="en-US" sz="4000" spc="-1" strike="noStrike">
              <a:solidFill>
                <a:srgbClr val="000000"/>
              </a:solidFill>
              <a:latin typeface="Arial"/>
            </a:endParaRPr>
          </a:p>
        </p:txBody>
      </p:sp>
      <p:graphicFrame>
        <p:nvGraphicFramePr>
          <p:cNvPr id="44" name=""/>
          <p:cNvGraphicFramePr/>
          <p:nvPr/>
        </p:nvGraphicFramePr>
        <p:xfrm>
          <a:off x="457200" y="1600200"/>
          <a:ext cx="8229600" cy="4410000"/>
        </p:xfrm>
        <a:graphic>
          <a:graphicData uri="http://schemas.openxmlformats.org/drawingml/2006/table">
            <a:tbl>
              <a:tblPr/>
              <a:tblGrid>
                <a:gridCol w="4114800"/>
                <a:gridCol w="4114800"/>
              </a:tblGrid>
              <a:tr h="5324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ATM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KV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rowSpan="2">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mplementing of Cafeteria of Activities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raining, Demonstration, Exposure Visit, Kisan Mela, Farmers Information Dissemination, F-S Interaction e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rganize vocational training programme in agriculture and allied enterprises and other extension activitie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2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n farm Testing on Farmers field of proven technologies in crop production, horticulture, livestock production, Fisheries etc.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rowSpan="3">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nvolvement of Agriculture &amp; Allied Sector as per SREP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2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nducting FLD on Major crop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n Service Training to the field level extension official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gence of Activities </a:t>
            </a:r>
            <a:br>
              <a:rPr sz="3200"/>
            </a:br>
            <a:r>
              <a:rPr b="0" lang="en-US" sz="3200" spc="-1" strike="noStrike">
                <a:solidFill>
                  <a:srgbClr val="000000"/>
                </a:solidFill>
                <a:latin typeface="Arial"/>
              </a:rPr>
              <a:t> of ATMA with KVK at District Level </a:t>
            </a:r>
            <a:endParaRPr b="0" lang="en-US" sz="3200" spc="-1" strike="noStrike">
              <a:solidFill>
                <a:srgbClr val="000000"/>
              </a:solidFill>
              <a:latin typeface="Arial"/>
            </a:endParaRPr>
          </a:p>
        </p:txBody>
      </p:sp>
      <p:graphicFrame>
        <p:nvGraphicFramePr>
          <p:cNvPr id="46" name=""/>
          <p:cNvGraphicFramePr/>
          <p:nvPr/>
        </p:nvGraphicFramePr>
        <p:xfrm>
          <a:off x="304920" y="1447920"/>
          <a:ext cx="8534160" cy="4767120"/>
        </p:xfrm>
        <a:graphic>
          <a:graphicData uri="http://schemas.openxmlformats.org/drawingml/2006/table">
            <a:tbl>
              <a:tblPr/>
              <a:tblGrid>
                <a:gridCol w="5181480"/>
                <a:gridCol w="3352680"/>
              </a:tblGrid>
              <a:tr h="527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ctivities of ATMA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ctivities of KVK</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D/ OFT (As per Researchable Issu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D &amp; Technical Assessment &amp; Refine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0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ion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4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in District Training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mers Training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mer-Scientist Interaction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tist –Extension- Farmers Interfa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mers Information Dissemination (Pamphlet, Leaflet, Folders) As per the recommended location specific practices of KVK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m School &amp; Farmers Field School (Technical backstopping from KVK Scientis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alient Points on ATMA &amp; KVK</a:t>
            </a:r>
            <a:endParaRPr b="0" lang="en-US" sz="3200" spc="-1" strike="noStrike">
              <a:solidFill>
                <a:srgbClr val="000000"/>
              </a:solidFill>
              <a:latin typeface="Arial"/>
            </a:endParaRPr>
          </a:p>
        </p:txBody>
      </p:sp>
      <p:sp>
        <p:nvSpPr>
          <p:cNvPr id="48" name="PlaceHolder 2"/>
          <p:cNvSpPr>
            <a:spLocks noGrp="1"/>
          </p:cNvSpPr>
          <p:nvPr>
            <p:ph/>
          </p:nvPr>
        </p:nvSpPr>
        <p:spPr>
          <a:xfrm>
            <a:off x="152280" y="761760"/>
            <a:ext cx="8763120" cy="6095880"/>
          </a:xfrm>
          <a:prstGeom prst="rect">
            <a:avLst/>
          </a:prstGeom>
          <a:noFill/>
          <a:ln w="0">
            <a:noFill/>
          </a:ln>
        </p:spPr>
        <p:txBody>
          <a:bodyPr lIns="90000" rIns="90000" tIns="46800" bIns="46800" anchor="t">
            <a:normAutofit/>
          </a:bodyPr>
          <a:p>
            <a:pPr marL="343080" indent="-343080" algn="just">
              <a:lnSpc>
                <a:spcPct val="120000"/>
              </a:lnSpc>
              <a:spcBef>
                <a:spcPts val="4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ATMA has been established as an autonomous organization at district level to serve as a focal point for integrated research and extension activities in general and refinement and dissemination of location specific technologies in particulars </a:t>
            </a:r>
            <a:endParaRPr b="0" lang="en-US" sz="1600" spc="-1" strike="noStrike">
              <a:solidFill>
                <a:srgbClr val="000000"/>
              </a:solidFill>
              <a:latin typeface="Arial"/>
            </a:endParaRPr>
          </a:p>
          <a:p>
            <a:pPr marL="343080" indent="-343080" algn="just">
              <a:lnSpc>
                <a:spcPct val="12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Whereas The State Agriculture University (SAU) namely Birsa Agricultural University (BAU) through its Research Station/ KVK upholds the mandate of generating, assessing and refining technologies, relevant to different farming situations, in the state of Jharkhand  </a:t>
            </a:r>
            <a:endParaRPr b="0" lang="en-US" sz="1600" spc="-1" strike="noStrike">
              <a:solidFill>
                <a:srgbClr val="000000"/>
              </a:solidFill>
              <a:latin typeface="Arial"/>
            </a:endParaRPr>
          </a:p>
          <a:p>
            <a:pPr marL="343080" indent="-343080" algn="just">
              <a:lnSpc>
                <a:spcPct val="120000"/>
              </a:lnSpc>
              <a:spcBef>
                <a:spcPts val="4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In ATMA Project Districts, Concerned Research Station/ KVK will carry out farmer participatory research trials (on farm and On Station trial wherever necessary) to generate location specific recommendation suitable to various farming situations of the districts. </a:t>
            </a:r>
            <a:endParaRPr b="0" lang="en-US" sz="1600" spc="-1" strike="noStrike">
              <a:solidFill>
                <a:srgbClr val="000000"/>
              </a:solidFill>
              <a:latin typeface="Arial"/>
            </a:endParaRPr>
          </a:p>
          <a:p>
            <a:pPr marL="343080" indent="-343080" algn="just">
              <a:lnSpc>
                <a:spcPct val="12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The technical training needs of different stakeholders like Governing Board members, Management Committee members, Block Technical Team members, Farmers Advisory Committee members and Farmers Interests Groups at ATMAs will be addressed by respective ATMAs in consultation with Scientist of Research Stations/KVK. </a:t>
            </a:r>
            <a:endParaRPr b="0" lang="en-US" sz="1600" spc="-1" strike="noStrike">
              <a:solidFill>
                <a:srgbClr val="000000"/>
              </a:solidFill>
              <a:latin typeface="Arial"/>
            </a:endParaRPr>
          </a:p>
          <a:p>
            <a:pPr marL="343080" indent="-343080" algn="just">
              <a:lnSpc>
                <a:spcPct val="12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For Field level technical training programme being conducted periodically by ATMA through BTT, Scientists of concerned BAU, KVK/ ZRS will participate as resource persons as and when necessary.</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752480" y="0"/>
            <a:ext cx="5486400" cy="736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676520" y="0"/>
            <a:ext cx="5486400" cy="796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5800" y="1600200"/>
            <a:ext cx="8077320" cy="2574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FUND AVAILABLE TO DISTRICTS UNDER DIFFERENT SCHMES/ PROGRAMMES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DURING 2009-1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304920" y="533520"/>
          <a:ext cx="8610480" cy="5943240"/>
        </p:xfrm>
        <a:graphic>
          <a:graphicData uri="http://schemas.openxmlformats.org/drawingml/2006/table">
            <a:tbl>
              <a:tblPr/>
              <a:tblGrid>
                <a:gridCol w="976320"/>
                <a:gridCol w="3327120"/>
                <a:gridCol w="2154240"/>
                <a:gridCol w="2152800"/>
              </a:tblGrid>
              <a:tr h="3344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3300"/>
                          </a:solidFill>
                          <a:latin typeface="Arial"/>
                          <a:ea typeface="Times New Roman"/>
                        </a:rPr>
                        <a:t>S No.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3300"/>
                          </a:solidFill>
                          <a:latin typeface="Arial"/>
                          <a:ea typeface="Times New Roman"/>
                        </a:rPr>
                        <a:t>Activities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3300"/>
                          </a:solidFill>
                          <a:latin typeface="Arial"/>
                          <a:ea typeface="Times New Roman"/>
                        </a:rPr>
                        <a:t>Physical in No.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3300"/>
                          </a:solidFill>
                          <a:latin typeface="Arial"/>
                          <a:ea typeface="Times New Roman"/>
                        </a:rPr>
                        <a:t>Financial in Lakhs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gridSpan="4">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Farm Information Dissemination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District level Exhibition, Kisan Mela, Fruit / </a:t>
                      </a:r>
                      <a:endParaRPr b="0" lang="en-US" sz="13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Vegetable Show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19</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38.0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2</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formation Dissemination through Printed </a:t>
                      </a:r>
                      <a:endParaRPr b="0" lang="en-US" sz="13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Leaflet &amp; Local Advertisemen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28.8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3</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echnology Package through IT Network</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94</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18.8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4</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Farmers- Scientist Interaction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38</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7.6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5</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Field Days and Kisan Ghosthi (Block level)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212</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31.8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03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6</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Front Line Demonstration and Short term </a:t>
                      </a:r>
                      <a:endParaRPr b="0" lang="en-US" sz="13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research Issue through KVK</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83.0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30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7</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stablishment cost of ATM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8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A/DA and Admin Expenses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47.5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8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Hire of Vehicle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27.5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8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Other Expenses for block level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34.84</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8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Farm School at Farmers Field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49.98</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8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3300"/>
                          </a:solidFill>
                          <a:latin typeface="Arial"/>
                          <a:ea typeface="Times New Roman"/>
                        </a:rPr>
                        <a:t>Total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3300"/>
                          </a:solidFill>
                          <a:latin typeface="Arial"/>
                          <a:ea typeface="Times New Roman"/>
                        </a:rPr>
                        <a:t>367.82</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 name=""/>
          <p:cNvSpPr/>
          <p:nvPr/>
        </p:nvSpPr>
        <p:spPr>
          <a:xfrm>
            <a:off x="914400" y="0"/>
            <a:ext cx="7467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Fund Released under Different Activities under Extension Reform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2T05:36:04Z</dcterms:created>
  <dc:creator>MAN</dc:creator>
  <dc:description/>
  <dc:language>en-US</dc:language>
  <cp:lastModifiedBy>MAN</cp:lastModifiedBy>
  <dcterms:modified xsi:type="dcterms:W3CDTF">2009-12-12T13:36:10Z</dcterms:modified>
  <cp:revision>3</cp:revision>
  <dc:subject/>
  <dc:title>Slide 1</dc:title>
</cp:coreProperties>
</file>