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2E9-83DC-486C-970A-DA37C45E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5CE-6287-4D2E-A8C1-DB8D9BAC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B3E-0D46-4CBC-853A-44D8EBE8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E0C-BD16-4DE3-9173-0B89A239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22F-DFBD-4029-9AD3-8C7BD92E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750-211F-4B8E-8BD0-EEF80989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360-1857-486B-8ED7-8575DAF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C18-A816-491F-A943-223D8F73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98E-40E7-4917-8EF9-846C8CA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1E9-864F-4085-BED7-A41652C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609-18B9-4F5C-A376-18147E83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291-C08B-467F-86C9-9E98EBE0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F1C-6981-4CE2-99D9-58155B79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6.gif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429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lbertus Extra Bold"/>
              </a:rPr>
              <a:t>FARMERS’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920" y="5553000"/>
            <a:ext cx="144756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553000"/>
            <a:ext cx="144792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543640"/>
            <a:ext cx="144792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FI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743200"/>
            <a:ext cx="419112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Community / Commodity Based  Farmers Organ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523880"/>
            <a:ext cx="236196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District level feder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76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FARMERS’ FED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33720" y="3504960"/>
            <a:ext cx="17524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86160" y="3581280"/>
            <a:ext cx="17478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625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State    : Orissa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District : Khu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5562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Vill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819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Block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1600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ahoma"/>
              </a:rPr>
              <a:t>Distri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6248520"/>
            <a:ext cx="3733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iversified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301920"/>
            <a:ext cx="1752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Servi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Technical Train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Supply of inpu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Marke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419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602160"/>
            <a:ext cx="15238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Dai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First-aid, 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Poul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Vacc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Ho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ahoma"/>
              </a:rPr>
              <a:t>Graf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8865200">
            <a:off x="2050920" y="3587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Link Work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665200">
            <a:off x="5104800" y="4495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Link 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07600">
            <a:off x="3421080" y="49593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Link 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133720" y="5562720"/>
            <a:ext cx="914040" cy="761760"/>
            <a:chOff x="2133720" y="5562720"/>
            <a:chExt cx="914040" cy="761760"/>
          </a:xfrm>
        </p:grpSpPr>
        <p:sp>
          <p:nvSpPr>
            <p:cNvPr id="117" name=""/>
            <p:cNvSpPr/>
            <p:nvPr/>
          </p:nvSpPr>
          <p:spPr>
            <a:xfrm>
              <a:off x="2309400" y="60807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61120" y="605016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50160" y="58370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6660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09400" y="55929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5840" y="556272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191120" y="5562720"/>
            <a:ext cx="914040" cy="761760"/>
            <a:chOff x="4191120" y="5562720"/>
            <a:chExt cx="914040" cy="761760"/>
          </a:xfrm>
        </p:grpSpPr>
        <p:sp>
          <p:nvSpPr>
            <p:cNvPr id="125" name=""/>
            <p:cNvSpPr/>
            <p:nvPr/>
          </p:nvSpPr>
          <p:spPr>
            <a:xfrm>
              <a:off x="4366800" y="60807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18520" y="605016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07560" y="58370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400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6800" y="55929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83240" y="556272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920" y="5562720"/>
            <a:ext cx="914040" cy="761760"/>
            <a:chOff x="6019920" y="5562720"/>
            <a:chExt cx="914040" cy="761760"/>
          </a:xfrm>
        </p:grpSpPr>
        <p:sp>
          <p:nvSpPr>
            <p:cNvPr id="133" name=""/>
            <p:cNvSpPr/>
            <p:nvPr/>
          </p:nvSpPr>
          <p:spPr>
            <a:xfrm>
              <a:off x="6195600" y="60807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47320" y="605016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360" y="58370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280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9920" y="580644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95600" y="559296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2040" y="556272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772400" y="5486400"/>
            <a:ext cx="914040" cy="762120"/>
            <a:chOff x="7772400" y="5486400"/>
            <a:chExt cx="914040" cy="762120"/>
          </a:xfrm>
        </p:grpSpPr>
        <p:sp>
          <p:nvSpPr>
            <p:cNvPr id="141" name=""/>
            <p:cNvSpPr/>
            <p:nvPr/>
          </p:nvSpPr>
          <p:spPr>
            <a:xfrm>
              <a:off x="7948080" y="600480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99800" y="597420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8840" y="576072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05280" y="573012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2400" y="5730120"/>
              <a:ext cx="28116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8080" y="551664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64520" y="5486400"/>
              <a:ext cx="281520" cy="243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85800" y="55022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rocessors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5105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3809880"/>
            <a:ext cx="3200400" cy="91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Block Level Processors Group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10 Process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19520" y="4572000"/>
            <a:ext cx="2743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76920" y="45720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714640" y="45720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866920" y="457200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981080"/>
            <a:ext cx="3200400" cy="8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District Level Cp 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&amp; Farmer Orgn.</a:t>
            </a:r>
            <a:br>
              <a:rPr sz="1800"/>
            </a:b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7 block level CP grou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618000"/>
            <a:ext cx="22096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Tahoma"/>
              </a:rPr>
              <a:t>Common Go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Gra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ahoma"/>
              </a:rPr>
              <a:t>Pa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057400"/>
            <a:ext cx="2438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Further gr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Pa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7796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State     :Maharashtra</a:t>
            </a:r>
            <a:br>
              <a:rPr sz="1800"/>
            </a:b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District :Ratnagi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913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CASHEW RATNA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430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FEDERATION OF WOMEN SH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600200"/>
            <a:ext cx="3657600" cy="398880"/>
          </a:xfrm>
          <a:prstGeom prst="rect">
            <a:avLst/>
          </a:prstGeom>
          <a:solidFill>
            <a:srgbClr val="99f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Mandal Level Feder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590920"/>
            <a:ext cx="990720" cy="838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886200"/>
            <a:ext cx="1295640" cy="3988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3876840"/>
            <a:ext cx="1295280" cy="3988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s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3860640"/>
            <a:ext cx="1143000" cy="3988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s 3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92520" y="203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962520" y="5486400"/>
            <a:ext cx="1294920" cy="1143000"/>
            <a:chOff x="3962520" y="5486400"/>
            <a:chExt cx="1294920" cy="1143000"/>
          </a:xfrm>
        </p:grpSpPr>
        <p:sp>
          <p:nvSpPr>
            <p:cNvPr id="175" name=""/>
            <p:cNvSpPr/>
            <p:nvPr/>
          </p:nvSpPr>
          <p:spPr>
            <a:xfrm>
              <a:off x="3962520" y="563904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9360" y="548640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6560" y="55627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656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252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360" y="590256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19920" y="5486400"/>
            <a:ext cx="1294920" cy="1143000"/>
            <a:chOff x="6019920" y="5486400"/>
            <a:chExt cx="1294920" cy="1143000"/>
          </a:xfrm>
        </p:grpSpPr>
        <p:sp>
          <p:nvSpPr>
            <p:cNvPr id="184" name=""/>
            <p:cNvSpPr/>
            <p:nvPr/>
          </p:nvSpPr>
          <p:spPr>
            <a:xfrm>
              <a:off x="6019920" y="563904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76760" y="548640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33960" y="55627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396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1992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6760" y="590256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2940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600200" y="5486400"/>
            <a:ext cx="1294920" cy="1143000"/>
            <a:chOff x="1600200" y="5486400"/>
            <a:chExt cx="1294920" cy="1143000"/>
          </a:xfrm>
        </p:grpSpPr>
        <p:sp>
          <p:nvSpPr>
            <p:cNvPr id="193" name=""/>
            <p:cNvSpPr/>
            <p:nvPr/>
          </p:nvSpPr>
          <p:spPr>
            <a:xfrm>
              <a:off x="1600200" y="563904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7040" y="548640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240" y="55627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24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6019920"/>
              <a:ext cx="380880" cy="30492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7040" y="5902560"/>
              <a:ext cx="38088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9680" y="6324840"/>
              <a:ext cx="380520" cy="304560"/>
            </a:xfrm>
            <a:prstGeom prst="ellipse">
              <a:avLst/>
            </a:prstGeom>
            <a:solidFill>
              <a:srgbClr val="99f2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Times New Roman"/>
                </a:rPr>
                <a:t>SH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V="1">
            <a:off x="2133720" y="4343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64832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05720" y="43430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720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105520" y="3048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27432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3-4 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133720" y="312372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930240"/>
            <a:ext cx="48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State: Andhra 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           Pradesh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1523880"/>
            <a:ext cx="2057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ervi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Sav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Group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IG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Implementation of govt. progr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722760"/>
            <a:ext cx="1295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Executiv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2 nos.from each SHG for 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2949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SH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152280" y="76320"/>
            <a:ext cx="96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VEGETABLE GROUP FARMERS’ FED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8352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State    : Himachal 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              Pradesh</a:t>
            </a:r>
            <a:br>
              <a:rPr sz="1600"/>
            </a:b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District: Shim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530856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Veg. F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530856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Veg. F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529920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Veg. F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3048120"/>
            <a:ext cx="41907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Vegetable Production and Marketing Block Association</a:t>
            </a:r>
            <a:br>
              <a:rPr sz="1800"/>
            </a:b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(25 FIGs in one block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1219320"/>
            <a:ext cx="403884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District Veg. Production &amp; Marketing Federation</a:t>
            </a:r>
            <a:br>
              <a:rPr sz="1800"/>
            </a:br>
            <a:r>
              <a:rPr b="0" lang="en-US" sz="1400" spc="-1" strike="noStrike">
                <a:solidFill>
                  <a:srgbClr val="0000cc"/>
                </a:solidFill>
                <a:latin typeface="Tahoma"/>
              </a:rPr>
              <a:t>(working committees  of all bloc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5302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Village/ Panchy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400" y="2824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Bloc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1452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Distri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6299280"/>
            <a:ext cx="487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Verdana"/>
              </a:rPr>
              <a:t>Production and Marketing grou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01920"/>
            <a:ext cx="17524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Serv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Technical Trai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Group dyna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Credit lin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1676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041640"/>
            <a:ext cx="1524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Working committee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ff6600"/>
                </a:solidFill>
                <a:latin typeface="Times New Roman"/>
              </a:rPr>
              <a:t>10-15 me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666880" y="394668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952880" y="3946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028840" y="394668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674600">
            <a:off x="3429360" y="426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3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61400">
            <a:off x="5638320" y="4189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3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327800">
            <a:off x="4374720" y="4555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3 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2920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09680" y="1066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FARMERS’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286000"/>
            <a:ext cx="754380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just">
              <a:lnSpc>
                <a:spcPct val="22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Poor quality and high cost of seeds, fertilizers and pestici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22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nadequate credit fac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22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Poor access to the latest technologies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90720" y="7621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335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99072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just">
              <a:lnSpc>
                <a:spcPct val="19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Natural calamities leading to loss of cr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19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Market fluctu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19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Exploitation by middle 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19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Lack of infrastructure for storage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Processing and transport of   commodities and poor policy sup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19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Lack of Irrig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1452600"/>
            <a:ext cx="8305920" cy="60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just">
              <a:lnSpc>
                <a:spcPct val="23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Should have a common interes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3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Should be dynamic and flexible should develop norms for performance standards and operating proced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3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Should have both short and long term objectives and a plan of action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09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FARMERS’ ORGANIZATIONS :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2120" y="1154160"/>
            <a:ext cx="80010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30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Enrolment should be through a membership fee (as decided by the group/organization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30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Democratic structure should be ensured by regular elections to the executive bod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3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14400" y="685800"/>
            <a:ext cx="7772400" cy="78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just">
              <a:lnSpc>
                <a:spcPct val="27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Clear and transparent transa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27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Ownership of members should be strengthened through education, training and provision of serv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27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The economic capacity of the organization should be strong to ensure its long term stability and sustain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2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62120" y="762120"/>
            <a:ext cx="7924680" cy="68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466560" algn="just">
              <a:lnSpc>
                <a:spcPct val="32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Linkages and network with other farmers groups/organizations have to be develop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32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Responsive and committed leadership, with a second line of comm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 algn="just">
              <a:lnSpc>
                <a:spcPct val="3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152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FOCUS OF TH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143000"/>
            <a:ext cx="7772400" cy="65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Empowerment of farm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Promotion of Farmer participatory approa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Promotion of Demand driven and farmer accountable exten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347760" algn="just"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By organizing the farmers into FIGs, FOs, SHG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347760" algn="just"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nstitutionalizing the role of farmers in extension system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9360" indent="-347760" algn="just">
              <a:lnSpc>
                <a:spcPct val="16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75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362320" y="2819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lbertus Extra Bold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V_Tuna%2520Grey%2520Background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Lucida Handwriting"/>
              </a:rPr>
              <a:t>ITD – NATP</a:t>
            </a:r>
            <a:br>
              <a:rPr sz="3200"/>
            </a:br>
            <a:r>
              <a:rPr b="0" lang="en-US" sz="4400" spc="-1" strike="noStrike">
                <a:solidFill>
                  <a:srgbClr val="00cc99"/>
                </a:solidFill>
                <a:latin typeface="Lucida Handwriting"/>
              </a:rPr>
              <a:t>ATMA, DUMKA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Lucida Handwriting"/>
              </a:rPr>
              <a:t>1-5</a:t>
            </a:r>
            <a:r>
              <a:rPr b="0" lang="en-US" sz="4400" spc="-1" strike="noStrike" baseline="30000">
                <a:solidFill>
                  <a:srgbClr val="00cc99"/>
                </a:solidFill>
                <a:latin typeface="Lucida Handwriting"/>
              </a:rPr>
              <a:t>th</a:t>
            </a:r>
            <a:r>
              <a:rPr b="0" lang="en-US" sz="4400" spc="-1" strike="noStrike">
                <a:solidFill>
                  <a:srgbClr val="00cc99"/>
                </a:solidFill>
                <a:latin typeface="Lucida Handwriting"/>
              </a:rPr>
              <a:t> June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4114800"/>
            <a:ext cx="40384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Lucida Handwriting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vantGarde Bk BT"/>
              </a:rPr>
              <a:t>Sri Gokul Me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Bk BT"/>
              </a:rPr>
              <a:t>Project 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Bk BT"/>
              </a:rPr>
              <a:t>ATMA, Dum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286000" cy="1977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2286000" cy="1917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19320" y="4191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JHARK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f the Distri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of B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Lak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70 Lakh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sowing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8 Lakh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7 Lakh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Irrigated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9 Lakh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Rainf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78.3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05120" y="714240"/>
            <a:ext cx="7238880" cy="6143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200400" y="1371600"/>
            <a:ext cx="299880" cy="299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238880" y="2743200"/>
            <a:ext cx="300240" cy="299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6553080" y="5943600"/>
            <a:ext cx="300240" cy="299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4495680" y="49528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6553080" y="31240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4191120" y="3352680"/>
            <a:ext cx="299880" cy="3002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3657600" y="3048120"/>
            <a:ext cx="299880" cy="299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tretch/>
        </p:blipFill>
        <p:spPr>
          <a:xfrm>
            <a:off x="5105520" y="1447920"/>
            <a:ext cx="299880" cy="299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2"/>
          <a:stretch/>
        </p:blipFill>
        <p:spPr>
          <a:xfrm>
            <a:off x="5105520" y="4038480"/>
            <a:ext cx="299880" cy="3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410080" y="457200"/>
          <a:ext cx="3429000" cy="646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57200"/>
                    <a:ext cx="34290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371600" y="0"/>
            <a:ext cx="42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imes New Roman"/>
              </a:rPr>
              <a:t>DUMKA DISTRI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707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928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59440" y="9558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5"/>
          <a:stretch/>
        </p:blipFill>
        <p:spPr>
          <a:xfrm>
            <a:off x="5334120" y="4264200"/>
            <a:ext cx="457200" cy="448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6"/>
          <a:stretch/>
        </p:blipFill>
        <p:spPr>
          <a:xfrm>
            <a:off x="7543800" y="1371600"/>
            <a:ext cx="457200" cy="449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79246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46880"/>
            <a:ext cx="4038480" cy="1313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. of block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. of villag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9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eographical Are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7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kh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7"/>
          <a:stretch/>
        </p:blipFill>
        <p:spPr>
          <a:xfrm>
            <a:off x="7620120" y="1066680"/>
            <a:ext cx="299880" cy="3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mers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1800" y="5907240"/>
            <a:ext cx="2210760" cy="459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 SAB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50840" y="3962520"/>
            <a:ext cx="2564280" cy="459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S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5640" y="2666880"/>
            <a:ext cx="1215360" cy="459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A.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99160" y="1143000"/>
            <a:ext cx="2096280" cy="8254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. Far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2640" y="5943600"/>
            <a:ext cx="145008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120" y="3962520"/>
            <a:ext cx="24638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440" y="2590920"/>
            <a:ext cx="22442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120" y="1295280"/>
            <a:ext cx="261612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C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33720" y="6172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28195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82600" y="5143680"/>
            <a:ext cx="2434680" cy="912600"/>
          </a:xfrm>
          <a:prstGeom prst="wedgeEllipseCallout">
            <a:avLst>
              <a:gd name="adj1" fmla="val -66055"/>
              <a:gd name="adj2" fmla="val 53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A Far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32440" y="6248520"/>
            <a:ext cx="2308320" cy="368280"/>
          </a:xfrm>
          <a:prstGeom prst="wedgeRectCallout">
            <a:avLst>
              <a:gd name="adj1" fmla="val -79157"/>
              <a:gd name="adj2" fmla="val -46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G, FIG, WIG, C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952880" y="5409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87692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55000" y="4876920"/>
            <a:ext cx="2954520" cy="459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LLAG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680" y="4791240"/>
            <a:ext cx="25520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– 30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952880" y="44197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50292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Farmers Fed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4920" y="8377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 of the federation: Siddhu Kanhu Kisan San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ate Of Formation : 22-1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ame of office beare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esident- Sri Arnest Hans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Vice President : Sri Jaydhan Hans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retary : Sri Dhaniram Ba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y. Secretary : Sri Sadanand Man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reasurer : Smt. Susmita So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block Presidents are  the Executiv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mber of this Fed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stt. Level meeting held on 2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ay of every month.                        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t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here are many decision taken by  federation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ainwater harvesting through bu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nchyat level workshop organised.(BTT,ZRS &amp; KV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se of improv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aptation of new and advance technique of farming like Agri, Goatry, Piggary, Duckkary, tassar and al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d 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lantation and value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ave the forest through the help of local vill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KISAN MAHASABH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240" y="8377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on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ril 2005 A Kisan Mahasabha Organised at Dum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Guest – Sri P. Chengal Re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cretary of FF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ugurated by- Sri Bishnu Kumar, 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missioner S.P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3" descr=""/>
          <p:cNvPicPr/>
          <p:nvPr/>
        </p:nvPicPr>
        <p:blipFill>
          <a:blip r:embed="rId2"/>
          <a:stretch/>
        </p:blipFill>
        <p:spPr>
          <a:xfrm>
            <a:off x="1295280" y="4286160"/>
            <a:ext cx="3581640" cy="2571840"/>
          </a:xfrm>
          <a:prstGeom prst="rect">
            <a:avLst/>
          </a:prstGeom>
          <a:ln w="0">
            <a:noFill/>
          </a:ln>
        </p:spPr>
      </p:pic>
      <p:pic>
        <p:nvPicPr>
          <p:cNvPr id="319" name="45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3733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-15228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TIVITIES OF THE FEDER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ll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SHG, FIG &amp; F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of village level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-15 village according to their convenience formed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of meeting for creation of awareness related to NRM / AI / Divers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of training programs (BTT / KVK/ Z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of block level framers f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of field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IES OF THE FEDERATION(cont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ric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e linkage with district administration for development wor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thly review of all block level, cluster level and village level organization / grou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velop schedule for training as required to FAC for different blocks with the help of ZRS / KV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e linkage and review of district level other developmental department work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mation of gramsabha and its registr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1143000"/>
            <a:ext cx="22096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GB AT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3352680"/>
            <a:ext cx="182880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BLOCK LEVEL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181480" y="4876920"/>
            <a:ext cx="2743200" cy="353160"/>
            <a:chOff x="5181480" y="4876920"/>
            <a:chExt cx="2743200" cy="353160"/>
          </a:xfrm>
        </p:grpSpPr>
        <p:sp>
          <p:nvSpPr>
            <p:cNvPr id="50" name=""/>
            <p:cNvSpPr/>
            <p:nvPr/>
          </p:nvSpPr>
          <p:spPr>
            <a:xfrm>
              <a:off x="5181480" y="489276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7280" y="489276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553080" y="487692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8880" y="487692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971800" y="2209680"/>
            <a:ext cx="320040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DISTRICT LEVEL FED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429000"/>
            <a:ext cx="182880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BLOCK LEVEL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52680" y="2895480"/>
            <a:ext cx="0" cy="45720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91320" y="2895480"/>
            <a:ext cx="0" cy="45720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48320" y="1523880"/>
            <a:ext cx="0" cy="60984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76520" y="4876920"/>
            <a:ext cx="2743200" cy="353160"/>
            <a:chOff x="1676520" y="4876920"/>
            <a:chExt cx="2743200" cy="353160"/>
          </a:xfrm>
        </p:grpSpPr>
        <p:sp>
          <p:nvSpPr>
            <p:cNvPr id="60" name=""/>
            <p:cNvSpPr/>
            <p:nvPr/>
          </p:nvSpPr>
          <p:spPr>
            <a:xfrm>
              <a:off x="1676520" y="489276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489276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487692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33920" y="4876920"/>
              <a:ext cx="685800" cy="33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ahoma"/>
                </a:rPr>
                <a:t>FI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066680" y="569916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eedback to research and extension, influence on decision relating to  planning, implementation and monitoring of extension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048120" y="4038120"/>
            <a:ext cx="0" cy="83844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53080" y="3962520"/>
            <a:ext cx="0" cy="91440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3429000"/>
            <a:ext cx="8384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F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505320"/>
            <a:ext cx="8384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F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657600"/>
            <a:ext cx="4572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52120" y="3733920"/>
            <a:ext cx="38124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INSTITUTIONALIZING  FARMERS’ R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IES OF THE FEDERATION(cont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wareness for artificial insem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wareness for developmental of irrigation source from natural s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wareness for plantation work at village lev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wareness for value-addition work in sericulture from cocoon production to wea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wareness for seed village conce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ion of all works conducted by ATMA or other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ening Far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tion of GRAM SAB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tion of Farmers Club for financial Management with B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TMA Farmers Represent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562720" y="4172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1295280" y="4191120"/>
            <a:ext cx="4191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 with other Dept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54000" y="2819520"/>
            <a:ext cx="4344120" cy="82512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TMA - Dum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67080" y="1447920"/>
            <a:ext cx="157968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f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85280" y="1467000"/>
            <a:ext cx="106308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75600" y="1467000"/>
            <a:ext cx="133452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57640" y="1390680"/>
            <a:ext cx="137844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04640" y="6095880"/>
            <a:ext cx="2564280" cy="459720"/>
          </a:xfrm>
          <a:prstGeom prst="wedgeRectCallout">
            <a:avLst>
              <a:gd name="adj1" fmla="val 38712"/>
              <a:gd name="adj2" fmla="val -30524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S 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4424400"/>
            <a:ext cx="6553080" cy="520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F.  I.  A.  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15200" y="5943600"/>
            <a:ext cx="1828800" cy="642600"/>
          </a:xfrm>
          <a:prstGeom prst="wedgeRectCallout">
            <a:avLst>
              <a:gd name="adj1" fmla="val -86092"/>
              <a:gd name="adj2" fmla="val -2060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MA Far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4800" y="6172200"/>
            <a:ext cx="2924280" cy="429120"/>
          </a:xfrm>
          <a:prstGeom prst="wedgeRectCallout">
            <a:avLst>
              <a:gd name="adj1" fmla="val -3212"/>
              <a:gd name="adj2" fmla="val -34128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G, FIG, WIG, C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2133720"/>
            <a:ext cx="76212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213372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133720"/>
            <a:ext cx="0" cy="685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086240" y="2057400"/>
            <a:ext cx="1219320" cy="7621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20" y="2438280"/>
            <a:ext cx="207972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ry De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895480"/>
            <a:ext cx="60948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58000" y="2514600"/>
            <a:ext cx="1424160" cy="581400"/>
          </a:xfrm>
          <a:prstGeom prst="rect">
            <a:avLst/>
          </a:prstGeom>
          <a:solidFill>
            <a:srgbClr val="00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86600" y="2895480"/>
            <a:ext cx="53352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V_Tuna%2520Grey%2520Background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1905120" y="1600200"/>
            <a:ext cx="6248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19320" y="685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GROUP APPROACH TO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676520"/>
            <a:ext cx="762012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Will help to replace the top down approach with bottom up approac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FIGs will generate a demand for information and technologies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The extension workers would respond to these dema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Group becomes a channel for routing all extension activities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 algn="just">
              <a:lnSpc>
                <a:spcPct val="15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198108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00000"/>
              </a:lnSpc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They can clearly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</a:rPr>
              <a:t>articulate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their needs,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</a:rPr>
              <a:t>organize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different services like inputs, credit, implements and transport,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</a:rPr>
              <a:t>access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different service providers and if necessary,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</a:rPr>
              <a:t>act as pressure groups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 and demand ser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WHEN FARMERS UN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9144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 algn="just">
              <a:lnSpc>
                <a:spcPct val="290000"/>
              </a:lnSpc>
              <a:buClr>
                <a:srgbClr val="993300"/>
              </a:buClr>
              <a:buFont typeface="Tahoma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Farmers’ organizations will empower farmers to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influence policies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and demand for required servic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90000"/>
              </a:lnSpc>
              <a:buClr>
                <a:srgbClr val="993300"/>
              </a:buClr>
              <a:buFont typeface="Tahoma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Farmers can institutionalize their role and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participate</a:t>
            </a:r>
            <a:r>
              <a:rPr b="1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in the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decision</a:t>
            </a:r>
            <a:r>
              <a:rPr b="1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making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process of the developmental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ahoma"/>
                <a:ea typeface="Times New Roman"/>
              </a:rPr>
              <a:t>Why Farmers’ Organiz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2120" y="685800"/>
            <a:ext cx="79246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 algn="just">
              <a:lnSpc>
                <a:spcPct val="350000"/>
              </a:lnSpc>
              <a:buClr>
                <a:srgbClr val="993300"/>
              </a:buClr>
              <a:buFont typeface="Tahoma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Service system becomes more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effective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accoun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350000"/>
              </a:lnSpc>
              <a:buClr>
                <a:srgbClr val="993300"/>
              </a:buClr>
              <a:buFont typeface="Tahoma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They get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better access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to latest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350000"/>
              </a:lnSpc>
              <a:buClr>
                <a:srgbClr val="993300"/>
              </a:buClr>
              <a:buFont typeface="Tahoma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FOs can involve in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farmer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to </a:t>
            </a:r>
            <a:r>
              <a:rPr b="1" lang="en-US" sz="2200" spc="-1" strike="noStrike">
                <a:solidFill>
                  <a:srgbClr val="003300"/>
                </a:solidFill>
                <a:latin typeface="Tahoma"/>
                <a:ea typeface="Times New Roman"/>
              </a:rPr>
              <a:t>farmer</a:t>
            </a:r>
            <a:r>
              <a:rPr b="0" lang="en-US" sz="2200" spc="-1" strike="noStrike">
                <a:solidFill>
                  <a:srgbClr val="993300"/>
                </a:solidFill>
                <a:latin typeface="Tahoma"/>
                <a:ea typeface="Times New Roman"/>
              </a:rPr>
              <a:t> extension 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380880" y="2819520"/>
          <a:ext cx="8763120" cy="3438360"/>
        </p:xfrm>
        <a:graphic>
          <a:graphicData uri="http://schemas.openxmlformats.org/drawingml/2006/table">
            <a:tbl>
              <a:tblPr/>
              <a:tblGrid>
                <a:gridCol w="4657680"/>
                <a:gridCol w="1816200"/>
                <a:gridCol w="2289240"/>
              </a:tblGrid>
              <a:tr h="379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6600"/>
                          </a:solidFill>
                          <a:latin typeface="Tahoma"/>
                        </a:rPr>
                        <a:t>Capacity building, skill development and support servi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6600"/>
                          </a:solidFill>
                          <a:latin typeface="Tahoma"/>
                        </a:rPr>
                        <a:t>Seed money / revolving fun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6600"/>
                          </a:solidFill>
                          <a:latin typeface="Tahoma"/>
                        </a:rPr>
                        <a:t>Rewards and incentives – Best   group representing diff..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336600"/>
                          </a:solidFill>
                          <a:latin typeface="Tahoma"/>
                        </a:rPr>
                        <a:t> enterprises (5 group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er group / per yea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er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Per year / per group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Rs.500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200"/>
                      </a:b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Rs.1000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Rs.2000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75248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PROVISION IN THE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752480"/>
            <a:ext cx="74674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00"/>
                </a:solidFill>
                <a:latin typeface="Tahoma"/>
              </a:rPr>
              <a:t>Mobilization of Farmers’ Groups and Organiz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ackground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685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80773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just">
              <a:lnSpc>
                <a:spcPct val="280000"/>
              </a:lnSpc>
              <a:spcBef>
                <a:spcPts val="1375"/>
              </a:spcBef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Tahoma"/>
              </a:rPr>
              <a:t>There is no universal model which can be recommended on all circumstan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80000"/>
              </a:lnSpc>
              <a:spcBef>
                <a:spcPts val="1375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Different models for different circumstances, to fulfill the interest of the farm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 algn="just">
              <a:lnSpc>
                <a:spcPct val="2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2:34:37Z</dcterms:created>
  <dc:creator>Umarani</dc:creator>
  <dc:description/>
  <dc:language>en-US</dc:language>
  <cp:lastModifiedBy>Executive Hall</cp:lastModifiedBy>
  <dcterms:modified xsi:type="dcterms:W3CDTF">2005-06-03T15:55:40Z</dcterms:modified>
  <cp:revision>55</cp:revision>
  <dc:subject/>
  <dc:title>PowerPoint Presentation</dc:title>
</cp:coreProperties>
</file>